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338-D49D-48D3-B034-E8B379EC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712-32EF-499D-BC7B-C335FBD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829-79E2-41ED-9358-C3D5C0CD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DF7-13C9-43BC-B07B-4255A96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5C15-4604-4913-94FD-12D288E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C164-9A51-4C34-B831-4A845760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7481-42CC-4E62-832C-5C419BF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0EAC-671E-42DD-9FFD-32720CF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44C0-5F4F-4C7E-9B7B-B425A0F2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AFA-209B-4400-A970-1868A8D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5AB-FF02-4C74-B6A2-13E24ADC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866-1FD0-4CC9-9572-F459044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B1DF-87C9-4247-9DA7-8A2955B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249-25AB-404A-9AFD-2D0A493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D5D8-13C3-4F88-BBDE-9F3B370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09BC-CB59-4C79-9D3B-86C55A7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E14-E0A2-4C7C-B839-5E91C1A2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4CF-0F51-4B99-B69F-6C92F78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C6C-524A-4DCF-A083-F17CB4A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D91-05D3-43FA-B315-99DEF82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750-D313-46B5-90AC-6064104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657-3E29-4B2F-AF04-3548D04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C99-B3DA-481B-AF12-DF236D8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A46-9D4C-4AD7-9CEB-035C01D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BC1-2605-48D5-8187-295DDE584E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38B-EE7D-4B39-BFAE-05BDCBC9CA1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49321.htm" TargetMode="External"/><Relationship Id="rId3" Type="http://schemas.openxmlformats.org/officeDocument/2006/relationships/hyperlink" Target="http://baike.baidu.com/view/36927.htm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Arial"/>
              </a:rPr>
              <a:t>鲜花入馔，美食养颜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双花饮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银花、菊花、山楂各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蜂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将银花、菊花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山楂加水煎成浓汁，加蜂蜜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之；它不仅是夏季清凉饮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而且也是暑天体热、眩晕、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痛、高血压、高血脂病、冠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病、化脓性感染等症的保健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86680" y="1916280"/>
            <a:ext cx="28573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红攻瑰黑白珍珠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料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较厚的水淀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较薄的水淀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精盐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素味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山珍汤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精制油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。 制法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 1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将内脂豆腐用刀板碾成茸泥， 再用清洁纱布包牢榨干水分。然后把蛋清、适量鲜咸味料和牛奶一起搅拌，调拌至没有团粒，再加较厚的水淀粉拌匀，使成较为稠厚的豆腐蛋糊。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手将豆腐蛋糊挤成杨梅大小的丸球，放入沸水锅中氽烫至熟，捞在清水中待用，成为“珍珠豆腐丸”。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将山珍汤倒入净锅中，放入珍珠蘑，加入鲜咸味料，烧开再放入豆腐丸，烧开，改小火焐烧五、六分钟，然后勾流利芡，批油上光，盛入深盆中，撒上玫瑰瓣即可上席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红、白、黑分明，香、嫩、鲜滑润。营养成分全面，滋补健康佳肴。豆腐和牛奶都含有丰富的钙、磷、铁和人体必须的氨基酸，特别是豆腐所含有的卵磷脂对大脑神经系统有营养作用，常吃可防治血压高、动脉硬化，还有消炎解毒、健脾宽中、润燥利水等作用。此菜因主料都有强身益神的药膳功能，故是滋补的花馔佳品之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玫瑰野菌煨鱼头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色泽鲜明。花香袭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汤浓味鲜肉糯嫩。微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辣味。花链鱼头性温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味甘，有暖胃、益脑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去头眩、 强筋骨之功效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鸡腿菌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菇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养胃益脾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清神祛火、理气化痰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排毒治痔的食疗作用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二者和玫瑰花组合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成为益神理气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排毒和五脏的冬令滋补佳肴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. 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仙人掌什锦沙拉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主料：仙人掌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菠萝、甜瓜、樱桃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水果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。可依个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爱好增减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辅料：沙拉酱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制法：把去刺仙人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茎片及各种水果都切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小块，加入沙拉酱拌匀即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特点：酸甜适口，制作简单、方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720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藤萝饼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藤萝饼是老北京四季糕点之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酥皮层次丰富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口味香甜适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酥松绵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具有浓郁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鲜藤萝花清香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原料有精面粉、白</a:t>
            </a:r>
            <a:r>
              <a:rPr b="0" lang="zh-CN" sz="32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糖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白油、藤萝花、</a:t>
            </a:r>
            <a:r>
              <a:rPr b="0" lang="zh-CN" sz="32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桃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仁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64000" y="2637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小榄菊花炸鲮球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选用的是中山所产鲮鱼，比较肥美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加上黄、白两种颜色的菊花。一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鲮鱼净肉，要配入生粉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水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腊肉粒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或肥肉粒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)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另外还要加入菊花、蒜茸、陈皮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盐、糖、味精、胡椒粉、花生油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适量。先把鲮鱼肉用刀跺碎，放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适量盐，搅拌至起胶。接着再放入生粉、开水、配料，顺着同一个方向，由慢到快地搅拌均匀。最后挤成球状，下油锅炸至金黄色即可上碟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9440" y="2060640"/>
            <a:ext cx="2914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百合豆腐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软嫩、香滑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别适合老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和孩子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别提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对百合过敏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要食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35160" y="1700280"/>
            <a:ext cx="61088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出水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营养功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清肺润燥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清心安神定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祛除口中异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养身体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减肥、细腻肌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66"/>
                </a:solidFill>
                <a:latin typeface="Arial"/>
              </a:rPr>
              <a:t>鲜花入珍馐唇齿留香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美容养颜，青春永驻。至于吃鲜花却留在朦胧的神话故事中或是遥远的民间小吃，更因为古人谓，鲜花皆是冰清玉洁之物，可远观不可亵玩，又怎能做皮囊的填充物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中国古代十大鲜花食谱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茉莉花食谱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茉莉花可以舒胆明目，清凉解毒。明《饮馔服食笺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记载：“茉莉花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叶采摘洗净，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豆腐熬食，绝品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茉莉花的香气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上透头顶，下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小腹，解除胸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一切陈腐之气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对精神也有轻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镇定作用，做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时放上一小撮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便清香宜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9436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紫藤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紫藤花的鲜花瓣用糖浸渍制饼，就成了北京著名的糕点“藤萝饼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齐云山上住着道士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他们的家人，把花采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晒干，食用时再用清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发开洗净，把腊肉切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薄片覆盖花上，上锅蒸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春天的味道就这样整整保留一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57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玉兰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早春，白玉兰满树白玉似的香花，仿佛阳春白雪。白玉兰的花瓣肥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且大，若用湿面粉裹着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和豆沙放在油锅中炸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甜可口，这就是驰名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外的“玉兰片”。“玉兰片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甜又脆，十分可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据说还有解毒镇痛之功能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玫瑰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玫瑰花瓣单吃起来微微的甜又带少许苦味。玫瑰花用糖渍了就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著名的玫瑰糖糕，用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做各种甜食馅的配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味香甜可口。红玫瑰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与鸡腿菌、鲜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喇叭菌等一起炖汤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是冬季的滋补佳品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杜鹃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色洁白、花冠大而肉质的大白花杜鹃，煮汤或与蚕豆、咸肉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火腿等煮食或炒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是白族用以待客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婚嫁娶丧筵席的材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杜鹃花含有氨基酸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维生素，有润肺清喉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益气宁神、调和经血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强健大脑神经的功效。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桃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是一种天然的润肤品。《太清方》中写道：“三月三日采桃花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酒浸服之，除百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好颜色。”阳春三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盛开，此时采摘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瓣阴干，放入粥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常服可添娇色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南瓜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南瓜花在乡土菜中十分常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朵硕大，漂洗切碎后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拌在面粉之中，煎成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食用，或者煮粥。有些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能觉得南瓜花素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够好吃，上加一点皮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杞子、高汤，煮开做成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会鲜得多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菊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诸款菊肴中，深受人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喜爱的莫过于“菊花炸鲮球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是将鲮鱼肉做成球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花生油炸了拌着鲜菊花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日本，油炸菊是一道名菜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它选用菊花、桔梗、木槿等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花的背面裹上薄薄的蛋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人锅油炸就成了松脆可口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美餐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35760" y="1557360"/>
            <a:ext cx="31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桂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本草纲目》中记载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“能养精神，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颜色久服轻身不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面生光华”。桂花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古以来就是重要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料，桂花糖渍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甜可口，有让人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悦的气味。可以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做桂花汤圆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月饼、桂花全鸭、桂花干贝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64040" y="2060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金庸笔下《神雕侠侣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中的“小龙女”，不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荤食，酷爱吃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书剑恩仇录》里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香公主生来就爱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打交道，因为爱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，满身散发芬芳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清雅的花香。如今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吃花”也成了一种时尚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卉主题餐厅也已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悄然出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95280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中式点心中常被用作香料或者馅料，在荷花盛开的时节，采其花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阴干煮成荷花粥，能使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色红润，容光焕发，皮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光滑细腻，最补女人。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京旧鼓楼大街有一家云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菜叫做“凤凰竹”，这个馆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是做“有机菜”的，其中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一道菜是“炸荷花”，做法与名菜炸玉兰类似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57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牡丹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的食用从宋代就开始了。到了明清时人们已有了较为完满的原料配方和制作方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养小录》记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瓣，汤焯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蜜浸可，肉汁烩亦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实，无论滑炒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勾芡、还是清炖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那浓郁的香气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改变。在菜谱中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有牡丹银耳汤、牡丹花熘片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里脊丝、牡丹花瓣酒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36576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ecff"/>
                </a:solidFill>
                <a:latin typeface="Arial"/>
              </a:rPr>
              <a:t>鲜花虽好但请谨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ff66"/>
                </a:solidFill>
                <a:latin typeface="Arial"/>
              </a:rPr>
              <a:t>【完】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Arial"/>
              </a:rPr>
              <a:t>路边野花你不要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实，鲜花菜肴和饮料早在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多年前就在我国兴起，如金针花就是特别大众化的菜肴；而且据一些老人回忆，过去饥荒年代，他们常常到外面采摘栀子花，栀子花清炒，只放些油盐，并无味精等各种调料，但却清香扑鼻，吃起来鲜嫩爽口。加上栀子开花时节恰是插秧时候，所以几乎家家都爱吃上几回。老人们说，栀子花吃了舒筋活血，有健体强身、解除疲劳的功效。还有槐花开了，采来用面蒸了吃，包饺子、包包子吃，槐花的清香就从山野、院落溜到了家里。据说槐花可清火去燥，美容养颜。至于饮料更有桂花茶、金银花茶、菊花茶、茉莉花茶等多样品种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月季汤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主据《本草纲目》、《泉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本草》：一般用开败的月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朵—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朵，洗净，加水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杯，文火煎至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杯，加冰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晾至温暖可口时作一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服用；可治血瘀性闭经、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经疮疖肿毒以及创伤性肿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等症效果较佳；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银花莲籽汤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用银耳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茉莉花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朵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锅内放清汤，放入银耳料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盐、味精，煮沸后洒上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莉花；具有生津润肺、益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滋阴；对肺热咳嗽、肺燥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咳、痰中带血、胃肠有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便秘带血、老年性支气管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头晕耳鸣、慢性咽炎、月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不调、肺结核的潮血咯血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冠心病、高血压等均有良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的疗效；另对神经衰弱、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后体弱等滋补最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52920" y="1628640"/>
            <a:ext cx="459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桂花栗蓉糯米糊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栗子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5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糯米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糖、桂花若干；栗子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水煮酥后去壳压成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糯米煮成粥，加入栗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白糖、稍煮，撒上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桂花后食用；有益肾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之功，可治老年肾亏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小便不利、尿频、尿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等症；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粥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采荷花瓣，晾干研末备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用粳米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煮粥，俟粥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加入荷花末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—15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煮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开后即成；能清暑、散淤血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减肥；还是镇心益气、驻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轻身的健美良药；另有荷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粥即将煮熟的热粥，用荷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盖上，待其稍凉后食用，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清香解暑作用，功效等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荷花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菊花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于秋季霜降前采花去蒂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晒干，碾成细粉；用粳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煮粥，待粥将成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入菊花米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—1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再煮一二开后即成；食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后能降低血压、扩张冠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动脉、增加冠状动脉血量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减慢心率、加强心肌收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43680" y="2060640"/>
            <a:ext cx="4000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8:56:25Z</dcterms:created>
  <dc:creator>微软用户</dc:creator>
  <dc:description/>
  <dc:language>en-US</dc:language>
  <cp:lastModifiedBy>微软用户</cp:lastModifiedBy>
  <dcterms:modified xsi:type="dcterms:W3CDTF">2010-11-18T04:11:50Z</dcterms:modified>
  <cp:revision>4</cp:revision>
  <dc:subject/>
  <dc:title>幻灯片 1</dc:title>
</cp:coreProperties>
</file>