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50D0-A877-43F7-9C46-DD57C56D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3237-69F2-4D32-96C4-33162C05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9C4-82FB-478A-8484-57E1D8B5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ACB-205D-46E8-B1A0-394E9F8B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502-87C9-4CDF-90C8-8DD63B77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9D8-8AEE-4776-A647-F978A462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D65-D5EC-41B2-9D7E-75441EA2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900-F1DC-4BD4-A154-68D1C115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49B-E271-4B96-BA5D-AB090F8C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0ED-AD29-4B27-854B-3747944C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49E-F882-4375-AC3D-A3986523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C04-18A0-4511-A559-C9505CF8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C6F7-4A29-49DA-A531-04486C4B2E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143000"/>
            <a:ext cx="7848720" cy="2257560"/>
          </a:xfrm>
          <a:prstGeom prst="rect">
            <a:avLst/>
          </a:prstGeom>
          <a:solidFill>
            <a:srgbClr val="caf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f12c0b"/>
                </a:solidFill>
                <a:latin typeface="Times New Roman"/>
                <a:ea typeface="华文行楷"/>
              </a:rPr>
              <a:t> </a:t>
            </a:r>
            <a:r>
              <a:rPr b="0" lang="zh-CN" sz="14200" spc="-1" strike="noStrike">
                <a:solidFill>
                  <a:srgbClr val="f12c0b"/>
                </a:solidFill>
                <a:latin typeface="Times New Roman"/>
                <a:ea typeface="华文新魏"/>
              </a:rPr>
              <a:t>人物分析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solidFill>
            <a:srgbClr val="fbe6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五、明确身份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有的放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5181480"/>
          </a:xfrm>
          <a:prstGeom prst="rect">
            <a:avLst/>
          </a:prstGeom>
          <a:solidFill>
            <a:srgbClr val="d0fed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析下列语句的表达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孔乙己是站着喝酒而穿长衫的唯一的人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2819520"/>
            <a:ext cx="79246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）交代了人物的身份和社会地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）揭示孔乙己生活贫穷而又以读书人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居的穷酸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4800600"/>
            <a:ext cx="76964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读《一季暖冬》，文中的“我”是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身份？有什么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143000"/>
          </a:xfrm>
          <a:prstGeom prst="rect">
            <a:avLst/>
          </a:prstGeom>
          <a:solidFill>
            <a:srgbClr val="fbe6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从情节入手，完整把握人物性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915400" cy="5181480"/>
          </a:xfrm>
          <a:prstGeom prst="rect">
            <a:avLst/>
          </a:prstGeom>
          <a:solidFill>
            <a:srgbClr val="dbfdd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读《小镇女人》回答问题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文是怎样在情节 的发展中揭示人物性格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89548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六年前，在街头摆摊卖杂物，穿旗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盘头发—勤劳、从容优雅、乐观自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几年后，买中巴跑运输—有追求、 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理想、善于经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5546880"/>
            <a:ext cx="8001000" cy="1323000"/>
          </a:xfrm>
          <a:prstGeom prst="rect">
            <a:avLst/>
          </a:prstGeom>
          <a:solidFill>
            <a:srgbClr val="dbf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半年后，出车祸，依然摆地摊，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迎顾客—乐观、坚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塑造人物形象的目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揭示社会现实，反映社会生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《没有一种冰不被阳光融化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35053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达作者的思想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揭示人物性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常见题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章中的人物有何  性格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21337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直接回答人物的性格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743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中塑造了怎样的人物形象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352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人物的性格特点 </a:t>
            </a: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人物身份（或“的形象”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3962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出文中画线句子运用的刻画人物方法及其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45720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7120d"/>
                </a:solidFill>
                <a:latin typeface="Times New Roman"/>
              </a:rPr>
              <a:t>指出刻画人物方法，对应回答其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51814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中的人物给你带来哪些启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58672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人物性格品质 </a:t>
            </a: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作者的思想感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7120d"/>
                </a:solidFill>
                <a:latin typeface="Times New Roman"/>
                <a:ea typeface="华文隶书"/>
              </a:rPr>
              <a:t>小节</a:t>
            </a:r>
            <a:r>
              <a:rPr b="1" lang="zh-CN" sz="6600" spc="-1" strike="noStrike">
                <a:solidFill>
                  <a:srgbClr val="d7120d"/>
                </a:solidFill>
                <a:latin typeface="Times New Roman"/>
                <a:ea typeface="华文宋体"/>
              </a:rPr>
              <a:t>：</a:t>
            </a:r>
            <a:r>
              <a:rPr b="1" lang="zh-CN" sz="4800" spc="-1" strike="noStrike">
                <a:solidFill>
                  <a:srgbClr val="d7120d"/>
                </a:solidFill>
                <a:latin typeface="Times New Roman"/>
                <a:ea typeface="华文隶书"/>
              </a:rPr>
              <a:t>分析人物的一般方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43352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分析刻画人物的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结合环境—烘托渲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分析次要人物的烘托陪衬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了解背景—确定基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明确身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的放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从情节入手，完整把握人物性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solidFill>
            <a:srgbClr val="fbe6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教学目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3886200"/>
          </a:xfrm>
          <a:prstGeom prst="rect">
            <a:avLst/>
          </a:prstGeom>
          <a:solidFill>
            <a:srgbClr val="d0fed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学习分析人物的一般方法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理解各种表现手法的作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理解塑造人物形象的目的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掌握答题的一般方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763120" cy="1447920"/>
          </a:xfrm>
          <a:prstGeom prst="rect">
            <a:avLst/>
          </a:prstGeom>
          <a:solidFill>
            <a:srgbClr val="fbe6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7120d"/>
                </a:solidFill>
                <a:latin typeface="Times New Roman"/>
                <a:ea typeface="华文中宋"/>
              </a:rPr>
              <a:t>分析人物的一般方法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solidFill>
            <a:srgbClr val="fbe6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一、分析刻画人物的方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419720"/>
          </a:xfrm>
          <a:prstGeom prst="rect">
            <a:avLst/>
          </a:prstGeom>
          <a:solidFill>
            <a:srgbClr val="d0fed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阅读《没有一种冰不被阳光融化》回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文中是怎样刻画父亲的形象的？表现了父亲怎样的性格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8862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7120d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d7120d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d7120d"/>
                </a:solidFill>
                <a:latin typeface="Times New Roman"/>
              </a:rPr>
              <a:t>）语言、外貌、动作行为</a:t>
            </a:r>
            <a:r>
              <a:rPr b="1" lang="zh-CN" sz="4000" spc="-1" strike="noStrike">
                <a:solidFill>
                  <a:srgbClr val="d7120d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d7120d"/>
                </a:solidFill>
                <a:latin typeface="Times New Roman"/>
              </a:rPr>
              <a:t>词语、细节、角度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5334120"/>
            <a:ext cx="8534160" cy="642600"/>
          </a:xfrm>
          <a:prstGeom prst="rect">
            <a:avLst/>
          </a:prstGeom>
          <a:solidFill>
            <a:srgbClr val="d0fe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d7120d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d7120d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d7120d"/>
                </a:solidFill>
                <a:latin typeface="Times New Roman"/>
              </a:rPr>
              <a:t>）表现了父亲朴实、乐观、善于教育孩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90720"/>
          </a:xfrm>
          <a:prstGeom prst="rect">
            <a:avLst/>
          </a:prstGeom>
          <a:solidFill>
            <a:srgbClr val="fbe6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二、结合环境—烘托渲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5334120"/>
          </a:xfrm>
          <a:prstGeom prst="rect">
            <a:avLst/>
          </a:prstGeom>
          <a:solidFill>
            <a:srgbClr val="d0fed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阅读《一季暖冬》回答下列问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找出选文中的环境描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分别说说这些环境描写有什么作用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30481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12c0b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12c0b"/>
                </a:solidFill>
                <a:latin typeface="Times New Roman"/>
              </a:rPr>
              <a:t>段、</a:t>
            </a:r>
            <a:r>
              <a:rPr b="0" lang="zh-CN" sz="3200" spc="-1" strike="noStrike">
                <a:solidFill>
                  <a:srgbClr val="f12c0b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12c0b"/>
                </a:solidFill>
                <a:latin typeface="Times New Roman"/>
              </a:rPr>
              <a:t>段、</a:t>
            </a:r>
            <a:r>
              <a:rPr b="0" lang="zh-CN" sz="3200" spc="-1" strike="noStrike">
                <a:solidFill>
                  <a:srgbClr val="f12c0b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12c0b"/>
                </a:solidFill>
                <a:latin typeface="Times New Roman"/>
              </a:rPr>
              <a:t>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4572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7120d"/>
                </a:solidFill>
                <a:latin typeface="Times New Roman"/>
              </a:rPr>
              <a:t>一段：写出阴沉压抑的气氛，烘托出人物沉重的心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52578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7120d"/>
                </a:solidFill>
                <a:latin typeface="Times New Roman"/>
              </a:rPr>
              <a:t>三段：写出环境的凄凉，烘托出人物孤独无助的处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5715000"/>
            <a:ext cx="8534160" cy="1015920"/>
          </a:xfrm>
          <a:prstGeom prst="rect">
            <a:avLst/>
          </a:prstGeom>
          <a:solidFill>
            <a:srgbClr val="d0fe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八段：写</a:t>
            </a:r>
            <a:r>
              <a:rPr b="1" lang="zh-CN" sz="2400" spc="-1" strike="noStrike">
                <a:solidFill>
                  <a:srgbClr val="f12c0b"/>
                </a:solidFill>
                <a:latin typeface="Times New Roman"/>
              </a:rPr>
              <a:t>雪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悄无声息地飘落 ，衬托“我”因找到一份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好的工作而喜悦的心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solidFill>
            <a:srgbClr val="fbe6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、分析次要人物的烘托陪衬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953240"/>
          </a:xfrm>
          <a:prstGeom prst="rect">
            <a:avLst/>
          </a:prstGeom>
          <a:solidFill>
            <a:srgbClr val="d0fed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读《没有一种冰不被阳光融化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文中作者着力刻画的人物是谁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中描写我落榜的失落和最后的成功的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悦对于刻画父亲的形象有什么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8686800" cy="1878840"/>
          </a:xfrm>
          <a:prstGeom prst="rect">
            <a:avLst/>
          </a:prstGeom>
          <a:solidFill>
            <a:srgbClr val="d0fe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d7120d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d7120d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选文中作者着力刻画的人物是父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7120d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d7120d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d7120d"/>
                </a:solidFill>
                <a:latin typeface="Times New Roman"/>
              </a:rPr>
              <a:t>）是为了表现父亲对我的教育的成功，从侧面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7120d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d7120d"/>
                </a:solidFill>
                <a:latin typeface="Times New Roman"/>
              </a:rPr>
              <a:t>托出父亲乐观、自信、朴实、善于教育孩子的形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be6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阅读《小镇女人》回答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solidFill>
            <a:srgbClr val="d0fed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文中是如何交代小镇上其他人的？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者写这些人有何用意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3352680"/>
            <a:ext cx="7315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7120d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d7120d"/>
                </a:solidFill>
                <a:latin typeface="Times New Roman"/>
              </a:rPr>
              <a:t>从议论女人的衣着，效仿女人的穿戴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7120d"/>
                </a:solidFill>
                <a:latin typeface="Times New Roman"/>
              </a:rPr>
              <a:t>面等， 通过语言和动作描写。从侧面烘托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7120d"/>
                </a:solidFill>
                <a:latin typeface="Times New Roman"/>
              </a:rPr>
              <a:t>小镇女人乐观自信的性格特点、优雅从容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7120d"/>
                </a:solidFill>
                <a:latin typeface="Times New Roman"/>
              </a:rPr>
              <a:t>生活态度，以及对小镇的影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solidFill>
            <a:srgbClr val="fbe6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四、了解背景—确定基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15400" cy="5029200"/>
          </a:xfrm>
          <a:prstGeom prst="rect">
            <a:avLst/>
          </a:prstGeom>
          <a:solidFill>
            <a:srgbClr val="d0fed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阅读《雪地上的路》思考 下列问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概括选文第一段的内容。体会该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段在全文中的作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4495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12c0b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12c0b"/>
                </a:solidFill>
                <a:latin typeface="Times New Roman"/>
              </a:rPr>
              <a:t>写下雪的环境和儿子身有残疾事实。表现出母亲对儿子的牵挂</a:t>
            </a:r>
            <a:r>
              <a:rPr b="1" lang="zh-CN" sz="4000" spc="-1" strike="noStrike">
                <a:solidFill>
                  <a:srgbClr val="f12c0b"/>
                </a:solidFill>
                <a:latin typeface="Times New Roman"/>
              </a:rPr>
              <a:t>----</a:t>
            </a:r>
            <a:r>
              <a:rPr b="1" lang="zh-CN" sz="4000" spc="-1" strike="noStrike">
                <a:solidFill>
                  <a:srgbClr val="f12c0b"/>
                </a:solidFill>
                <a:latin typeface="Times New Roman"/>
              </a:rPr>
              <a:t>爱。奠定了全文的感情基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solidFill>
            <a:srgbClr val="fbe6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阅读《没有一种冰不被阳光融化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19360"/>
          </a:xfrm>
          <a:prstGeom prst="rect">
            <a:avLst/>
          </a:prstGeom>
          <a:solidFill>
            <a:srgbClr val="d0fed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选文第一段交代了什么内容？有什么作用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3429000"/>
            <a:ext cx="822960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d7120d"/>
                </a:solidFill>
                <a:latin typeface="Times New Roman"/>
              </a:rPr>
              <a:t>交代了乡村升学的背景，与我后来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7120d"/>
                </a:solidFill>
                <a:latin typeface="Times New Roman"/>
              </a:rPr>
              <a:t>上大学的结局相对比，表现出父亲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7120d"/>
                </a:solidFill>
                <a:latin typeface="Times New Roman"/>
              </a:rPr>
              <a:t>于自信教育对我的重要性</a:t>
            </a:r>
            <a:r>
              <a:rPr b="1" lang="zh-CN" sz="3200" spc="-1" strike="noStrike">
                <a:solidFill>
                  <a:srgbClr val="d7120d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02:49:38Z</dcterms:created>
  <dc:creator/>
  <dc:description/>
  <dc:language>en-US</dc:language>
  <cp:lastModifiedBy>ABIT</cp:lastModifiedBy>
  <dcterms:modified xsi:type="dcterms:W3CDTF">2012-06-09T02:49:54Z</dcterms:modified>
  <cp:revision>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