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389-0A75-4EFA-9DB8-2F11642D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1EA-ED4C-44F8-BC59-A21359D7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D13-5640-4FE4-A176-E1760B6C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8A3-5582-44B2-9FB3-FB42093C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9358-D2F1-4D84-98FE-26E51486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A997-D6EA-444D-9AC6-1A0F2147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D583-0F24-494A-A196-E1383955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549C-E0D8-448E-A3B6-1CFD4796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F90E-4602-48BF-861A-9266DD51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8FA8-FA44-4713-83BF-9D524569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253C-C96C-4381-AA00-12E169DF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0186-3272-4531-AB0E-F49282D0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6D5E-4720-43B5-8A97-F5D9ED42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EFB0-E361-4264-A4EA-29963B42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870E-982E-4852-99B2-FE749BBA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3F8E-2386-435B-BAED-B2AEF14F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22A0-FCB0-434B-8380-57BA3BF9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F5F-45EE-4AE3-B7F0-605B6C1C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EAF-E001-46C9-A304-52931F69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E18-CF14-4F3F-9B9B-19AC7699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D64-E678-403F-B6D8-D1BECF87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D6C-5287-4324-BA07-4423ECCA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B9E-5088-48FC-AC2E-6EFD1431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B05-7B49-4B2D-93A8-02BD4127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BFB3-7573-47F6-8986-3C6FC3A7B25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E163-13E8-4950-B9EE-9926508AA20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325080" cy="688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531000">
            <a:off x="755280" y="2541240"/>
            <a:ext cx="741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ff00"/>
                </a:solidFill>
                <a:latin typeface="Tahoma"/>
              </a:rPr>
              <a:t>细节，让文章更精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47973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496800">
            <a:off x="971280" y="3621240"/>
            <a:ext cx="66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——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人物动作的细节描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9800" y="525456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执教：人和二中    李干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51280" y="115920"/>
            <a:ext cx="1563480" cy="60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79280" y="5589720"/>
            <a:ext cx="738360" cy="1049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885080" y="0"/>
            <a:ext cx="882720" cy="9507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26920" y="333360"/>
            <a:ext cx="576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04640"/>
            <a:ext cx="48243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游子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孟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慈母手中线，游子身上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临行密密缝，意恐迟迟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谁言寸草心，报得三春晖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5435640" y="260280"/>
            <a:ext cx="3456000" cy="2521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0920" y="2637000"/>
            <a:ext cx="8280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练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①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这是一首亲切真淳地吟颂母爱的诗歌，诗中最能具体形象地表现慈母之爱的动作细节是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根据语境在语段空缺处填上贴切的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母亲把线头在舌尖上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又用指尖轻轻一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她年纪大了，那细小的针眼仿佛也成了一道难闯的关。她一手拿着衣服，一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着针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着眼睛，凑到油灯前，就着油灯的亮光，将针线穿来引去。那密密缝织在一起的是母亲对游子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32720" y="3500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密密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小试牛刀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0920" y="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151280" y="115920"/>
            <a:ext cx="1563480" cy="60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79280" y="5589720"/>
            <a:ext cx="738360" cy="10490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885080" y="0"/>
            <a:ext cx="882720" cy="950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8366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运用人物动作细节描写的方法来描写：起晚快要迟到的情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50—100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字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6400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27640" y="3933720"/>
            <a:ext cx="458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51640" y="537372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2349360"/>
            <a:ext cx="889308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睁开眼一看，还有十五分钟就上课了，而我平时从家里回到学校的时间至少也要十分钟啊。天哪！要迟到了。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306864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386064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3860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9280" y="4292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44370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472428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4005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5157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4360" y="4724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5589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90560" y="537372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602136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778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小试牛刀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549360"/>
            <a:ext cx="4753080" cy="4292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5280" y="3213000"/>
            <a:ext cx="87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1413000"/>
            <a:ext cx="806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天哪！要迟到了。我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踢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开被子，从床上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跳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下来，慌慌张张地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拽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过衣服，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套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上鞋子，几步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蹿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进卫生间，急急忙忙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抽出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牙刷，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涂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上牙膏，在嘴里胡乱地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戳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了几下，然后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扯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下毛巾，在脸上抹了两把，飞快地钻出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屋子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47628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练习答案示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151280" y="115920"/>
            <a:ext cx="1563480" cy="60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79280" y="5589720"/>
            <a:ext cx="738360" cy="10490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885080" y="0"/>
            <a:ext cx="882720" cy="950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26920" y="333360"/>
            <a:ext cx="576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47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3357720"/>
            <a:ext cx="849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-8280" y="-720"/>
            <a:ext cx="2741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620640"/>
            <a:ext cx="8569440" cy="72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要求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在横线上写上这个身影在忙什么，要体现人物动作的细节描写，并融入自己的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两处各不少于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100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清晨，我睁开惺忪的眼睛从房间走出来，一个忙碌的身影把我怔住了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傍晚，我骑着自行车，载着一天的收获，高高兴兴回到家，推开门，这个忙碌的身影又出现了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00000" y="4138560"/>
            <a:ext cx="77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350028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35733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8936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393372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4076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41497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5578560"/>
            <a:ext cx="80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661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566100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900000" y="5950080"/>
            <a:ext cx="80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602136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62373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755640" y="1773360"/>
            <a:ext cx="79930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感谢您的支持和指导</a:t>
            </a: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!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newsflash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26028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8640" y="-720"/>
            <a:ext cx="283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762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交流写作的甘苦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1341360"/>
            <a:ext cx="70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你怕写作文吗？为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285264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ahoma"/>
              </a:rPr>
              <a:t>作文是重头戏，半壁江山</a:t>
            </a:r>
            <a:r>
              <a:rPr b="1" lang="zh-CN" sz="40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4221000"/>
            <a:ext cx="770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方法：细心观察、感悟生活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多读书、多积累；勤写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189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佳作之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981000"/>
            <a:ext cx="48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佳作总在多写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06064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佳作总在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多写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后，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细察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中有快乐。珍惜所有的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感悟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，每一次提高在练习后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佳作总在多写后 ，请相信会成功 ，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多读积累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缺一不可，成功一直会在你的左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11280" y="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86480" y="1484280"/>
            <a:ext cx="2009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ahoma"/>
                <a:ea typeface="隶书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59280" y="98100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明确人物动作细节描写 的概念、方法和技巧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87640" y="234936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能运用人物动作 细节描写的方法，刻画人物个性，突出文章中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4076640"/>
            <a:ext cx="51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养成细致观察、感悟生活、多读书、多积累和常修改作文的好习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219640" y="1268280"/>
            <a:ext cx="3635280" cy="4942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赏一赏《背影》中“望父买橘”的细节描写片段 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4869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7628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我看见他</a:t>
            </a:r>
            <a:r>
              <a:rPr b="1" lang="zh-CN" sz="2800" spc="-1" strike="noStrike">
                <a:solidFill>
                  <a:srgbClr val="ff6699"/>
                </a:solidFill>
                <a:latin typeface="Tahoma"/>
              </a:rPr>
              <a:t>戴着黑布小帽，穿着黑布大马褂，深青布棉袍，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蹒跚地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走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到铁道边，慢慢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探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身下去，尚不大难。可是他穿过铁道，要爬上那边月台，就不容易了。他用两手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攀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着上面，两脚再向上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缩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；他微胖的身子向左微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倾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</a:rPr>
              <a:t>，显出努力的样子，这时我看见他的背影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的泪很快地流下来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了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441680"/>
            <a:ext cx="72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57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段中的描写方法有：在正确的括号内打“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外貌描写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    )    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动作描写（    ）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节描写（     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正面描写（   ）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侧面描写（    ）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环境描写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场面描写（   ）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态描写（   ）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心理活动描写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段中的外貌与动作两个平淡质朴的细节描写，让我们看到了一个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</a:rPr>
              <a:t>家道艰难、年老多病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 的老父亲对儿子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ahoma"/>
              </a:rPr>
              <a:t>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的爱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ahoma"/>
              </a:rPr>
              <a:t>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2800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4292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16680" y="429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0360" y="12240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661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真挚而又深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24000" y="404640"/>
            <a:ext cx="4968720" cy="4262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4360" y="549360"/>
            <a:ext cx="417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333360"/>
            <a:ext cx="835344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什么叫做</a:t>
            </a:r>
            <a:r>
              <a:rPr b="1" lang="zh-CN" sz="3600" spc="-1" strike="noStrike">
                <a:solidFill>
                  <a:srgbClr val="0066ff"/>
                </a:solidFill>
                <a:latin typeface="Tahoma"/>
              </a:rPr>
              <a:t>细节描写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和人物的</a:t>
            </a:r>
            <a:r>
              <a:rPr b="1" lang="zh-CN" sz="3600" spc="-1" strike="noStrike">
                <a:solidFill>
                  <a:srgbClr val="0066ff"/>
                </a:solidFill>
                <a:latin typeface="Tahoma"/>
              </a:rPr>
              <a:t>动作的细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描写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472428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9620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20000" y="2276640"/>
            <a:ext cx="21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特殊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2708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细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335772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3213000"/>
            <a:ext cx="381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准确、细致、生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19280" y="52182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01336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准确、细致、生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501336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人物富有特征性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5445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的动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24000" y="1557360"/>
            <a:ext cx="8496000" cy="2297880"/>
            <a:chOff x="324000" y="1557360"/>
            <a:chExt cx="8496000" cy="2297880"/>
          </a:xfrm>
        </p:grpSpPr>
        <p:sp>
          <p:nvSpPr>
            <p:cNvPr id="152" name=""/>
            <p:cNvSpPr/>
            <p:nvPr/>
          </p:nvSpPr>
          <p:spPr>
            <a:xfrm>
              <a:off x="324000" y="1557360"/>
              <a:ext cx="8351640" cy="22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zh-CN" sz="3200" spc="-1" strike="noStrike">
                  <a:solidFill>
                    <a:srgbClr val="0066ff"/>
                  </a:solidFill>
                  <a:latin typeface="Tahoma"/>
                </a:rPr>
                <a:t>细节描写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ahoma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在写作中，把对表现人物和情节有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ahoma"/>
                </a:rPr>
                <a:t>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              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ahoma"/>
                </a:rPr>
                <a:t>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的 </a:t>
              </a:r>
              <a:r>
                <a:rPr b="0" lang="zh-CN" sz="3200" spc="-1" strike="noStrike" u="sng">
                  <a:solidFill>
                    <a:srgbClr val="ff0000"/>
                  </a:solidFill>
                  <a:uFillTx/>
                  <a:latin typeface="Tahoma"/>
                </a:rPr>
                <a:t>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语言、动作、表情、物件、景色等环节进行 </a:t>
              </a:r>
              <a:r>
                <a:rPr b="1" lang="zh-CN" sz="3200" spc="-1" strike="noStrike" u="sng">
                  <a:solidFill>
                    <a:srgbClr val="ff0000"/>
                  </a:solidFill>
                  <a:uFillTx/>
                  <a:latin typeface="Tahoma"/>
                </a:rPr>
                <a:t>  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的描写，使读者“如见其人”“如睹其物”“如临其境”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0000" y="2852640"/>
              <a:ext cx="1800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95280" y="4508640"/>
            <a:ext cx="8748720" cy="2043720"/>
            <a:chOff x="395280" y="4508640"/>
            <a:chExt cx="8748720" cy="2043720"/>
          </a:xfrm>
        </p:grpSpPr>
        <p:sp>
          <p:nvSpPr>
            <p:cNvPr id="155" name=""/>
            <p:cNvSpPr/>
            <p:nvPr/>
          </p:nvSpPr>
          <p:spPr>
            <a:xfrm>
              <a:off x="395280" y="4508640"/>
              <a:ext cx="8748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Tahoma"/>
                </a:rPr>
                <a:t>人物动作的细节描写</a:t>
              </a:r>
              <a:r>
                <a:rPr b="0" lang="zh-CN" sz="3200" spc="-1" strike="noStrike">
                  <a:solidFill>
                    <a:srgbClr val="0066ff"/>
                  </a:solidFill>
                  <a:latin typeface="Tahoma"/>
                </a:rPr>
                <a:t> 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即 </a:t>
              </a:r>
              <a:r>
                <a:rPr b="1" lang="zh-CN" sz="3200" spc="-1" strike="noStrike" u="sng">
                  <a:solidFill>
                    <a:srgbClr val="ff0000"/>
                  </a:solidFill>
                  <a:uFillTx/>
                  <a:latin typeface="Tahoma"/>
                </a:rPr>
                <a:t>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地描写 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ahoma"/>
                </a:rPr>
                <a:t>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                              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ahoma"/>
                </a:rPr>
                <a:t>                  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zh-CN" sz="3200" spc="-1" strike="noStrike" u="sng">
                  <a:solidFill>
                    <a:srgbClr val="ff0000"/>
                  </a:solidFill>
                  <a:uFillTx/>
                  <a:latin typeface="Tahoma"/>
                </a:rPr>
                <a:t>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以表现人物的性格、身体状况、身份、地位、心理、习惯、情感等等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0360" y="5516640"/>
              <a:ext cx="28083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172360" y="2205000"/>
            <a:ext cx="720720" cy="432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003640" cy="4292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0920" y="0"/>
            <a:ext cx="88930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0464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实在不大佩服她。最讨厌的是常喜欢切切察察，向人们低声絮说些什么事，还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竖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起第二个手指，在空中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上下摇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或者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点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手或自己的鼻尖。我的家里一有些小风波，我总疑心和这“切切察察”有些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72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ahoma"/>
              </a:rPr>
              <a:t>走进动作细节描写的百花园 ，感受其魅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98100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37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爸气极了，一把把我从床上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拖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起来，我的眼泪就流出来了。爸左看右看，结果从桌上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起鸡毛掸子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倒转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来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拿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藤鞭子在空中一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就发出咻咻的声音，我挨打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爸爸把我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床头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打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床角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床上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打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床下，外面的雨声混合着我的哭声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930920"/>
            <a:ext cx="878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65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2133720"/>
            <a:ext cx="83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ahoma"/>
              </a:rPr>
              <a:t>——</a:t>
            </a:r>
            <a:r>
              <a:rPr b="1" lang="zh-CN" sz="2800" spc="-1" strike="noStrike">
                <a:solidFill>
                  <a:srgbClr val="ff66ff"/>
                </a:solidFill>
                <a:latin typeface="Tahoma"/>
              </a:rPr>
              <a:t>突出阿长喜欢说长道短，搬弄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性格</a:t>
            </a: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6093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ahoma"/>
              </a:rPr>
              <a:t>——</a:t>
            </a:r>
            <a:r>
              <a:rPr b="1" lang="zh-CN" sz="2800" spc="-1" strike="noStrike">
                <a:solidFill>
                  <a:srgbClr val="ff00ff"/>
                </a:solidFill>
                <a:latin typeface="Tahoma"/>
              </a:rPr>
              <a:t>老王最后一次来我家时，身体状况已差到极致。</a:t>
            </a:r>
            <a:r>
              <a:rPr b="0" lang="zh-CN" sz="2800" spc="-1" strike="noStrike">
                <a:solidFill>
                  <a:srgbClr val="ff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87480" y="638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458136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ahoma"/>
              </a:rPr>
              <a:t>——</a:t>
            </a:r>
            <a:r>
              <a:rPr b="1" lang="zh-CN" sz="2800" spc="-1" strike="noStrike">
                <a:solidFill>
                  <a:srgbClr val="ff00ff"/>
                </a:solidFill>
                <a:latin typeface="Tahoma"/>
              </a:rPr>
              <a:t>表现爸爸对我的严格要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51577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有一天，我在家听到打门，开门看见老王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直僵僵地镶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门框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60280"/>
            <a:ext cx="4753080" cy="4292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9280" y="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比一比——哪一项才是人物动作的细节描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54936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豹子飞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）世界男子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110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米跨栏比赛开始了，预备——砰！刘翔开始狂奔，一步，两步，三步，第一个栏轻松过了……</a:t>
            </a:r>
            <a:r>
              <a:rPr b="0" lang="zh-CN" sz="3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世界男子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跨栏比赛开始了，刘翔那豹子般的眼神死盯着终点。预备——砰！刘翔像平原上疯狂的豹子，开始狂奔，一步，两步，三步，右腿向上抬到最高点，啪！用力下压，左脚用上全部的力量向下蹬地，右脚稳健地落在地上，第一个栏轻松过了……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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60280"/>
            <a:ext cx="4753080" cy="4292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508720" y="1916280"/>
            <a:ext cx="3635280" cy="4941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95280" y="54936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圈出第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段描写刘翔跨栏的动词，画出动词的修饰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从中悟出人物动作细节描写的哪些方   法？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32130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选择典型的动作细节，展现人物的个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细化动作细节，突出中心思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用词准确生动，修辞贴切新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3:39:27Z</dcterms:created>
  <dc:creator>微软用户</dc:creator>
  <dc:description/>
  <dc:language>en-US</dc:language>
  <cp:lastModifiedBy>微软用户</cp:lastModifiedBy>
  <dcterms:modified xsi:type="dcterms:W3CDTF">2009-11-16T13:40:19Z</dcterms:modified>
  <cp:revision>72</cp:revision>
  <dc:subject/>
  <dc:title>PowerPoint 演示文稿</dc:title>
</cp:coreProperties>
</file>