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F30-901A-4455-A96C-CEE2CF7C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404-3D6B-4C9B-88F2-6D515A0C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BED-8916-4A87-8946-87BE29E9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B8E-B575-42C7-80A5-B6E3B5C5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9AD4-9EC5-4950-BA4B-86786BFD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6E22-1EFC-431F-8F0E-F42FEBF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92FB-8127-4E83-B9FE-7CA331BB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1B53-86C7-460D-9E52-4CCE3145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F81D-6732-4C84-AEF6-30B12A7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8908-DDBA-4BE1-8402-62D964C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4E6-A490-476B-B3D3-D8418A3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49C-66F3-4FB5-9137-A8A4533E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E4F8-6111-4B4C-ADAC-B89785C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D684-6CFA-4CB9-A642-2724DD1B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CDD8-6DD1-4284-9426-AA765CAC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A37F-9229-47CC-B781-651330D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94E5-4C18-407D-AD9D-697C8FBA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4DA-0358-4936-B023-5AE678A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238-A48C-44E9-8A00-E4A3410D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7AE-B228-4467-A344-22BFD46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2E3-279F-414F-9CC2-F7F5B11E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DC6-92B0-4CE4-AEE2-9B0DC77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488-9066-44B3-ACD7-71F9CFE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513-5413-42BF-9153-68B2DD7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E5B-8AFF-422D-BB93-6713E62E86E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9B5-9504-495A-AFFD-C084930A4C4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http_imgloadCAMXO01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67120" y="2421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让心灵说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2480" y="378936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理活动描写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奶奶给了我无尽的快乐，也使我度过了一个愉快的童年。我在心底默默地对奶奶诉说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补上内心独白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3716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奶奶，您就是我口渴时的一杯清水，也是我困倦时的一个枕头，更是抚慰我心灵的一缕春风。您的爱无边无际，无时无刻萦绕着我。无论今后遇到怎样的困难，我都会笑对一切，快乐的生活。因为，我知道，有您的爱陪伴着我直到永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8041680" y="6021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9640" y="1341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二：梦境和幻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好像看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满试卷鲜红的叉组成一张巨大的网向我卷来，把我网住，使我不能动弹，不能挣扎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又仿佛看到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老师满面的怒容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仿佛听到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父母失望的叹息声和旁人的嘲笑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姥姥微眯着眼睛对我说：“春天夜里凉，别冻着了。多学习点好，但不要太累，早些睡才好啊！”姥姥的声音有些沙哑，（补充我的心理活动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933720"/>
            <a:ext cx="8351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仿佛像听到了经典的老碟片，音色不如从前，却不影响悠扬宛转的曲调，还浸染了岁月的馨香。借着银色的月亮，我又仿佛看到姥姥花白的头发，深深的皱纹，苍老的脸庞中散发的圣母般的光芒。我仿佛感到一股温热的液体就要盈满我的眼眶……我说不出话来，只好重重地点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244000" y="5950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4000" y="90792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三：环境衬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天阴沉沉的，不时刮来阵阵冷风。风刮到我身上，我就不由自主地打颤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教室里静悄悄的，只听见“沙沙”的发试卷的声音，“哗啦！”我的心随之猛跳了一下，一个同学不小心把书碰到了地下。同桌的试卷已发下来了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7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分，看着同桌哭丧的脸，我不由得心里直打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（补上景物描写衬托心情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我的心遂如一张鼓满的风帆，满载悠闲．看着好友狡黠的笑容，突然明白她带我出来游玩的用意：我已被学业的丝束于蚕茧，不收拾心情很难褪茧成蝶．芳草的气息掺杂着友人的好意，裹在柳絮中．这眷眷的一瞬像一副心手相依的风景，怎能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令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我铭记于心？！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4437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遥远的柳絮轻盈而来，融融的触感在指间旋结．静躺在芳草与柳絮编织而成的温床，陶醉于空气的独有气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041680" y="6021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0920" y="692280"/>
            <a:ext cx="8137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四：动作语言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试卷静静地反躺在桌上。我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用有点颤抖的手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去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慢慢地掀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试卷一角，一个鲜红的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4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字映入我的眼帘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的手一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试卷又合上了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一咬牙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把手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伸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试卷底下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用力一翻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随着“啪”的一声，我看到了我的分数──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48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  可怜的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48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“唉”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一声便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瘫在桌上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1125360"/>
            <a:ext cx="2232000" cy="790920"/>
          </a:xfrm>
          <a:prstGeom prst="wedgeEllipseCallout">
            <a:avLst>
              <a:gd name="adj1" fmla="val -87337"/>
              <a:gd name="adj2" fmla="val 12128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赶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4724280"/>
            <a:ext cx="3960720" cy="1441440"/>
          </a:xfrm>
          <a:prstGeom prst="wedgeEllipseCallout">
            <a:avLst>
              <a:gd name="adj1" fmla="val 26833"/>
              <a:gd name="adj2" fmla="val -1645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的脸色十分苍白，两只眼也跟寻常不一样，低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155736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父亲看了看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边的女儿女婿，就向我们走来，对我母亲说：“这个卖牡蛎的像于勒？”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0"/>
            <a:ext cx="3887640" cy="1368360"/>
          </a:xfrm>
          <a:prstGeom prst="wedgeEllipseCallout">
            <a:avLst>
              <a:gd name="adj1" fmla="val -48939"/>
              <a:gd name="adj2" fmla="val 7493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突然好像不安起来，他向旁边走了几步，瞪着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4508640"/>
            <a:ext cx="2449440" cy="936360"/>
          </a:xfrm>
          <a:prstGeom prst="wedgeEllipseCallout">
            <a:avLst>
              <a:gd name="adj1" fmla="val -46694"/>
              <a:gd name="adj2" fmla="val -11779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么那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0"/>
            <a:ext cx="49323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练习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运用言语神态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修饰语扩写下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表现出人物的心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8000" y="115920"/>
            <a:ext cx="885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63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98100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五：神态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     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**59” “***58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 ……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本应清脆甜美的声音此刻却好像化作一把把利剑直插入他的心脏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他的面色如纸，两眼死死地盯着老师那一张一合的嘴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 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“王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**60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不经意间似一阵温暖的春风拂过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那本来早已僵硬的面部轮廓，霎时露出一丝诡异的苦笑，他的身子也随之瘫软在椅子上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这时，一阵热烈的讨论声打断了他的思绪，他猛的一抬头，看见老师正从讲台上注视着他。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Comic Sans MS"/>
              </a:rPr>
              <a:t>他立马又紧张起来。他的目光四处移动，似乎在搜寻什么，他是那么的不安，甚至不敢接触任何人的目光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然后他又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Comic Sans MS"/>
              </a:rPr>
              <a:t>把头深深低下去，好像怕被老师看见似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他屏住呼吸等待着，紧握的手心一会儿便被汗水打湿了，可老师还是没有叫他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1557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一段你内心很紧张的情节，用神态表现你的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8041680" y="6021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8000" y="333360"/>
            <a:ext cx="90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学有所得——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进行心理描写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时应注意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心理描写，应符合人物的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身份、年龄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等特征，写出其在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特定环境中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的心理活动，从而表现人物的思想性格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心理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描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，要努力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表现出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人物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细微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的感情波澜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复杂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的心理变化过程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，描写方法也可以多种多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3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心理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描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，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不必拘泥于一种形式，可穿插其它角度，如联想、比喻、侧面描写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395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836640"/>
            <a:ext cx="78692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b200"/>
                </a:solidFill>
                <a:latin typeface="Comic Sans MS"/>
              </a:rPr>
              <a:t>这样写好不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语文课开始了，老师把批好的试卷发了下来。在拿到试卷之前，我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紧张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得要命，就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怕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自己考砸了。试卷拿到手以后，我一看不及格，很是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伤心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91560" y="5013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  <a:ea typeface="仿宋_GB2312"/>
              </a:rPr>
              <a:t>用抽象的概述代替具体可感的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76360" y="765000"/>
            <a:ext cx="76676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在众多的写作手法当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最能揭示人物精神世界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丰满人物形象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表现人物性格的莫过于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理描写。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484360" y="2060640"/>
            <a:ext cx="4124520" cy="4228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58920" y="11955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谢谢大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836640"/>
            <a:ext cx="77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心理描写：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1" lang="zh-CN" sz="4400" spc="-1" strike="noStrike">
                <a:solidFill>
                  <a:srgbClr val="cc3399"/>
                </a:solidFill>
                <a:latin typeface="Comic Sans MS"/>
              </a:rPr>
              <a:t>对人物在一定环境中，围绕客观事物而产生的看法、感触、联想、潜意识等思想活动的描写，称作心理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2503" t="4442" r="3332" b="33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95480" y="1197000"/>
            <a:ext cx="44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心理描写的作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913040"/>
            <a:ext cx="1063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它是塑造人物形象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刻画人物性格的重要手段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通过对人物心理的描写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能够直接深入人物心灵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揭示人物的内心世界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表现人物丰富而复杂的思想感情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2116080"/>
            <a:ext cx="9144000" cy="1116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24000" y="260280"/>
            <a:ext cx="6480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</a:rPr>
              <a:t>心理描写要求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符合身份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表现性格、</a:t>
            </a:r>
            <a:br>
              <a:rPr sz="6600"/>
            </a:b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结合环境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6600" spc="-1" strike="noStrike">
                <a:solidFill>
                  <a:srgbClr val="3333ff"/>
                </a:solidFill>
                <a:latin typeface="Comic Sans MS"/>
              </a:rPr>
              <a:t>扣住主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03280" y="620640"/>
            <a:ext cx="671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心理描写的三个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844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第一，写人物的心理活动，应写特定的人物在特定的环境中必然产生的心理活动，而不能为心理描写而进行心理描写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96560" y="3284640"/>
            <a:ext cx="19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99ff"/>
                </a:solidFill>
                <a:latin typeface="Comic Sans MS"/>
                <a:ea typeface="楷体_GB2312"/>
              </a:rPr>
              <a:t>第二，写心理活动，要防止左一个心理活动，右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Comic Sans MS"/>
                <a:ea typeface="楷体_GB2312"/>
              </a:rPr>
              <a:t>个心理活动。</a:t>
            </a:r>
            <a:r>
              <a:rPr b="1" lang="zh-CN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34160" y="4292640"/>
            <a:ext cx="50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第三，写心理活动，要努力写人物细微的感情波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和复杂的心理变化过程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Comic Sans MS"/>
              </a:rPr>
              <a:t>完成心理刻画的思维过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3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一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二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三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Comic Sans MS"/>
              </a:rPr>
              <a:t>第四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87640" y="184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写作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997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解情节环境（情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422100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揣摩（分析）心理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3203640" y="544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选择适当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2362320"/>
            <a:ext cx="11430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447920"/>
            <a:ext cx="304920" cy="3124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1430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直接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2670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间接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60948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808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内心独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55736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神态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565360"/>
            <a:ext cx="3519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梦境、幻觉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88620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35812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环境烘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5029200"/>
            <a:ext cx="2971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动作语言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654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一名学生在老师宣布考试成绩时的心理活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177336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例一：内心独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   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我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不停地在心里念叨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：阿弥陀佛，大慈大悲的观世音菩萨，保佑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吧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再也不踢球了，不看电视，不打游戏机了。唉！都怪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自己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，老想着打游戏机，考试前一天还趁父母不在家偷看了一个小时的电视。老师啊，手下留情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你让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过了这一关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以后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上课一定好好听讲，千万千万别让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不及格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14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4:48:25Z</dcterms:created>
  <dc:creator>微软用户</dc:creator>
  <dc:description/>
  <dc:language>en-US</dc:language>
  <cp:lastModifiedBy>微软用户</cp:lastModifiedBy>
  <dcterms:modified xsi:type="dcterms:W3CDTF">2011-04-09T15:17:27Z</dcterms:modified>
  <cp:revision>21</cp:revision>
  <dc:subject/>
  <dc:title>幻灯片 1</dc:title>
</cp:coreProperties>
</file>