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7.png" ContentType="image/png"/>
  <Override PartName="/ppt/media/image4.gif" ContentType="image/gif"/>
  <Override PartName="/ppt/media/image6.jpeg" ContentType="image/jpeg"/>
  <Override PartName="/ppt/media/image5.gif" ContentType="image/gif"/>
  <Override PartName="/ppt/media/image8.jpeg" ContentType="image/jpeg"/>
  <Override PartName="/ppt/media/image9.gif" ContentType="image/gif"/>
  <Override PartName="/ppt/media/image10.jpeg" ContentType="image/jpeg"/>
  <Override PartName="/ppt/media/image11.png" ContentType="image/png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2B0C-1A2A-4F36-BF21-B5F5DC7BF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CE7B-A46B-481A-BC05-8F5F3168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24EF-CDA4-4139-B1A8-B1E5B1904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0196-39AF-4E5A-9196-D93D56AC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9762-6DBD-42C1-884E-00678B8F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CECD-C05D-45F4-A59B-5FE7471D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DEA9-040A-4958-AF49-DAF5A2EF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0B8F-D0AF-401B-9BB5-3DA5130A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4906-D903-4B4A-BB5D-43722E0E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4396-0CFE-4ED2-BD65-89DCEBAD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FC5A-CEB0-4AAB-AC96-2AE8C10E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73FF-4C2D-417D-B6C5-7DAD03BD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4472-B1D8-4DBC-8757-1BF569EC5C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800600" y="2895480"/>
            <a:ext cx="4343400" cy="3962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5776800">
            <a:off x="3965760" y="2251440"/>
            <a:ext cx="5399280" cy="228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"/>
              </a:rPr>
              <a:t>让人物鲜活起来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"/>
              <a:ea typeface="楷体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8080" y="-457200"/>
            <a:ext cx="28195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295280" y="533520"/>
            <a:ext cx="2362320" cy="642600"/>
          </a:xfrm>
          <a:prstGeom prst="rect">
            <a:avLst/>
          </a:pr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小试牛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396252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字数：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150——200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左右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19280" y="1981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266688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运用所学的方法描写出所观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95520" y="3352680"/>
            <a:ext cx="7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察的人物活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47242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请以 “</a:t>
            </a:r>
            <a:r>
              <a:rPr b="1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老师一声令下后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”为开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-148680" y="1523880"/>
            <a:ext cx="20091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展 示 要 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1219320"/>
            <a:ext cx="3886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、朗读本组的最佳作品内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、结合所学的人物描写的方法讲清推荐的原因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1360" y="1828800"/>
            <a:ext cx="152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 堂 小 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4695840"/>
            <a:ext cx="857160" cy="2162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438280" y="1295280"/>
            <a:ext cx="4419720" cy="642600"/>
          </a:xfrm>
          <a:prstGeom prst="rect">
            <a:avLst/>
          </a:prstGeom>
          <a:noFill/>
          <a:ln cap="rnd" w="76320">
            <a:solidFill>
              <a:srgbClr val="ff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"/>
              </a:rPr>
              <a:t>抓住人物的动作、外貌、语言、心理进行描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38280" y="3429000"/>
            <a:ext cx="4419720" cy="642600"/>
          </a:xfrm>
          <a:prstGeom prst="rect">
            <a:avLst/>
          </a:prstGeom>
          <a:noFill/>
          <a:ln cap="rnd" w="76320">
            <a:solidFill>
              <a:srgbClr val="ff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"/>
              </a:rPr>
              <a:t>把人物的动作进行分解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"/>
              </a:rPr>
              <a:t>+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"/>
              </a:rPr>
              <a:t>动作感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8120" y="1599840"/>
            <a:ext cx="3657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学习目标</a:t>
            </a:r>
            <a:r>
              <a:rPr b="1" lang="zh-CN" sz="6000" spc="-1" strike="noStrike">
                <a:solidFill>
                  <a:srgbClr val="660066"/>
                </a:solidFill>
                <a:latin typeface="楷体"/>
                <a:ea typeface="楷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3352680"/>
            <a:ext cx="5639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楷体"/>
                <a:ea typeface="楷体"/>
              </a:rPr>
              <a:t>1</a:t>
            </a:r>
            <a:r>
              <a:rPr b="1" lang="zh-CN" sz="4400" spc="-1" strike="noStrike">
                <a:solidFill>
                  <a:srgbClr val="0066ff"/>
                </a:solidFill>
                <a:latin typeface="楷体"/>
                <a:ea typeface="楷体"/>
              </a:rPr>
              <a:t>、分析范文，理解观察、描写人物的方法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楷体"/>
                <a:ea typeface="楷体"/>
              </a:rPr>
              <a:t>2</a:t>
            </a:r>
            <a:r>
              <a:rPr b="1" lang="zh-CN" sz="4400" spc="-1" strike="noStrike">
                <a:solidFill>
                  <a:srgbClr val="0066ff"/>
                </a:solidFill>
                <a:latin typeface="楷体"/>
                <a:ea typeface="楷体"/>
              </a:rPr>
              <a:t>、通过观察，能写出描写人物的语段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5335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师命难违，只见王明走上讲台，右手拿起板擦，高高扬起右臂，竟然没有碰到一个字。王明啊，王明，看来今天在劫难逃了。王明稍稍迟疑了一会儿，身体微微下蹲，用尽全身的力气，猛地向上一跳，同时右手顺势向右一挥，一行字就这样在他的手中消失了。看来效果不错啊！他又重复着刚才的动作，蹦来蹦去，右手随着跳跃的频率挥来挥去，像是一个钟摆，又像是一个灵活的小猴子在表演。大家被他逗得哄堂大笑，有的同学竟然笑得直不起腰来。王明扭过头，眼睛一瞥，吐了吐舌头，脸上洋溢着得意与自豪，分明是在向大家炫耀。又是一阵连续的跳跃，此时，王明气喘吁吁地抬起头，看着最上沿的那些字迹，实在是够不着了。他无可奈何的站在黑板前，不知所措。唉！我不禁同情起他来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380880"/>
            <a:ext cx="3276720" cy="1434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让人物鲜活起来的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3429000"/>
            <a:ext cx="57909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  <a:ea typeface="楷体"/>
              </a:rPr>
              <a:t>抓住人物的动作、外貌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  <a:ea typeface="楷体"/>
              </a:rPr>
              <a:t>语言、心理进行描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11430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师命难违，只见王明走上讲台，右手拿起板擦，高高扬起右臂，竟然没有碰到一个字。王明啊，王明，看来今天在劫难逃了。王明稍稍迟疑了一会儿，身体微微下蹲，用尽全身的力气，猛地向上一跳，同时右手顺势向右一挥，一行字就这样在他的手中消失了。看来效果不错啊！他又重复着刚才的动作，蹦来蹦去，右手随着跳跃的频率挥来挥去，像是一个钟摆，又像是一个灵活的小猴子在表演。大家被他逗得哄堂大笑，有的同学竟然笑得直不起腰来。王明扭过头，眼睛一瞥，吐了吐舌头，脸上洋溢着得意与自豪，分明是在向大家炫耀。又是一阵连续的跳跃，此时，王明气喘吁吁地抬起头，看着最上沿的那些字迹，实在是够不着了。他无可奈何的站在黑板前，不知所措。唉！我不禁同情起他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1430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师命难违，只见</a:t>
            </a:r>
            <a:r>
              <a:rPr b="1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王明走上讲台，右手拿起板擦，高高扬起右臂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竟然没有碰到一个字。王明啊，王明，看来今天在劫难逃了。</a:t>
            </a:r>
            <a:r>
              <a:rPr b="1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王明稍稍迟疑了一会儿，身体微微下蹲，用尽全身的力气，猛地向上一跳，同时右手顺势向右一挥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行字就这样在他的手中消失了。看来效果不错啊！他又重复着刚才的动作，</a:t>
            </a:r>
            <a:r>
              <a:rPr b="1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蹦来蹦去，右手随着跳跃的频率挥来挥去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像是一个钟摆，又像是一个灵活的小猴子在表演。大家被他逗得哄堂大笑，有的同学竟然笑得直不起腰来。王明</a:t>
            </a:r>
            <a:r>
              <a:rPr b="1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扭过头，眼睛一瞥，吐了吐舌头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脸上洋溢着得意与自豪，分明是在向大家炫耀。</a:t>
            </a:r>
            <a:r>
              <a:rPr b="1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又是一阵连续的跳跃，此时，王明气喘吁吁地抬起头，看着最上沿的那些字迹，实在是够不着了。他无可奈何的站在黑板前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不知所措。唉！我不禁同情起他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533520"/>
            <a:ext cx="3276360" cy="533160"/>
          </a:xfrm>
          <a:prstGeom prst="wedgeRoundRectCallout">
            <a:avLst>
              <a:gd name="adj1" fmla="val 50240"/>
              <a:gd name="adj2" fmla="val 10743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楷体"/>
              </a:rPr>
              <a:t>刚开始擦的时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4280" y="380880"/>
            <a:ext cx="3276720" cy="533520"/>
          </a:xfrm>
          <a:prstGeom prst="wedgeRoundRectCallout">
            <a:avLst>
              <a:gd name="adj1" fmla="val -100870"/>
              <a:gd name="adj2" fmla="val 26964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楷体"/>
              </a:rPr>
              <a:t>再次擦的时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5943600"/>
            <a:ext cx="3276720" cy="533520"/>
          </a:xfrm>
          <a:prstGeom prst="wedgeRoundRectCallout">
            <a:avLst>
              <a:gd name="adj1" fmla="val 73013"/>
              <a:gd name="adj2" fmla="val -53125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楷体"/>
              </a:rPr>
              <a:t>后来擦的时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5943600"/>
            <a:ext cx="3276720" cy="609480"/>
          </a:xfrm>
          <a:prstGeom prst="wedgeRoundRectCallout">
            <a:avLst>
              <a:gd name="adj1" fmla="val -1115"/>
              <a:gd name="adj2" fmla="val -19505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楷体"/>
              </a:rPr>
              <a:t>后来又擦的时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1219320"/>
            <a:ext cx="457200" cy="380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924680" y="1219320"/>
            <a:ext cx="457200" cy="380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2286000"/>
            <a:ext cx="457200" cy="380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2286000"/>
            <a:ext cx="457200" cy="380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3048120"/>
            <a:ext cx="457200" cy="380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048120"/>
            <a:ext cx="457200" cy="380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3733920"/>
            <a:ext cx="457200" cy="380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05720" y="3733920"/>
            <a:ext cx="457200" cy="380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3733920"/>
            <a:ext cx="457200" cy="380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4495680"/>
            <a:ext cx="457200" cy="3812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4495680"/>
            <a:ext cx="457200" cy="3812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4495680"/>
            <a:ext cx="457200" cy="3812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4876920"/>
            <a:ext cx="457200" cy="380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1219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师命难违，只见</a:t>
            </a:r>
            <a:r>
              <a:rPr b="1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王明走上讲台，右手拿起板擦，高高扬起右臂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竟然没有碰到一个字。王明啊，王明，看来今天在劫难逃了。</a:t>
            </a:r>
            <a:r>
              <a:rPr b="1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王明稍稍迟疑了一会儿，身体微微下蹲，用尽全身的力气，猛地向上一跳，同时右手顺势向右一挥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行字就这样在他的手中消失了。看来效果不错啊！他又重复着刚才的动作，</a:t>
            </a:r>
            <a:r>
              <a:rPr b="1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蹦来蹦去，右手随着跳跃的频率挥来挥去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像是一个钟摆，又像是一个灵活的小猴子在表演。大家被他逗得哄堂大笑，有的同学竟然笑得直不起腰来。王明</a:t>
            </a:r>
            <a:r>
              <a:rPr b="1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扭过头，眼睛一瞥，吐了吐舌头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脸上洋溢着得意与自豪，分明是在向大家炫耀。</a:t>
            </a:r>
            <a:r>
              <a:rPr b="1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又是一阵连续的跳跃，此时，王明气喘吁吁地抬起头，看着最上沿的那些字迹，实在是够不着了。他无可奈何的站在黑板前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不知所措。唉！我不禁同情起他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533520"/>
            <a:ext cx="3276360" cy="533160"/>
          </a:xfrm>
          <a:prstGeom prst="wedgeRoundRectCallout">
            <a:avLst>
              <a:gd name="adj1" fmla="val 50240"/>
              <a:gd name="adj2" fmla="val 10743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楷体"/>
              </a:rPr>
              <a:t>刚开始擦的时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380880"/>
            <a:ext cx="3276720" cy="533520"/>
          </a:xfrm>
          <a:prstGeom prst="wedgeRoundRectCallout">
            <a:avLst>
              <a:gd name="adj1" fmla="val -100870"/>
              <a:gd name="adj2" fmla="val 26964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楷体"/>
              </a:rPr>
              <a:t>再次擦的时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5943600"/>
            <a:ext cx="3276720" cy="533520"/>
          </a:xfrm>
          <a:prstGeom prst="wedgeRoundRectCallout">
            <a:avLst>
              <a:gd name="adj1" fmla="val 73013"/>
              <a:gd name="adj2" fmla="val -53125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楷体"/>
              </a:rPr>
              <a:t>后来擦的时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5943600"/>
            <a:ext cx="3276720" cy="609480"/>
          </a:xfrm>
          <a:prstGeom prst="wedgeRoundRectCallout">
            <a:avLst>
              <a:gd name="adj1" fmla="val -1115"/>
              <a:gd name="adj2" fmla="val -19505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楷体"/>
              </a:rPr>
              <a:t>后来又擦的时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12193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师命难违，只见</a:t>
            </a:r>
            <a:r>
              <a:rPr b="1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王明走上讲台，右手拿起板擦，高高扬起右臂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竟然没有碰到一个字。</a:t>
            </a:r>
            <a:r>
              <a:rPr b="1" lang="zh-CN" sz="2400" spc="-1" strike="noStrike">
                <a:solidFill>
                  <a:srgbClr val="0066ff"/>
                </a:solidFill>
                <a:latin typeface="楷体"/>
                <a:ea typeface="楷体"/>
              </a:rPr>
              <a:t>王明啊，王明，看来今天在劫难逃了。</a:t>
            </a:r>
            <a:r>
              <a:rPr b="1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王明稍稍迟疑了一会儿，身体微微下蹲，用尽全身的力气，猛地向上一跳，同时右手顺势向右一挥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行字就这样在他的手中消失了。</a:t>
            </a:r>
            <a:r>
              <a:rPr b="1" lang="zh-CN" sz="2400" spc="-1" strike="noStrike">
                <a:solidFill>
                  <a:srgbClr val="0066ff"/>
                </a:solidFill>
                <a:latin typeface="楷体"/>
                <a:ea typeface="楷体"/>
              </a:rPr>
              <a:t>看来效果不错啊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！他又重复着刚才的动作，</a:t>
            </a:r>
            <a:r>
              <a:rPr b="1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蹦来蹦去，右手随着跳跃的频率挥来挥去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像是一个钟摆，又像是一个灵活的小猴子在表演。大家被他逗得哄堂大笑，有的同学竟然笑得直不起腰来。王明</a:t>
            </a:r>
            <a:r>
              <a:rPr b="1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扭过头，眼睛一瞥，吐了吐舌头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脸上洋溢着得意与自豪，</a:t>
            </a:r>
            <a:r>
              <a:rPr b="1" lang="zh-CN" sz="2400" spc="-1" strike="noStrike">
                <a:solidFill>
                  <a:srgbClr val="0066ff"/>
                </a:solidFill>
                <a:latin typeface="楷体"/>
                <a:ea typeface="楷体"/>
              </a:rPr>
              <a:t>分明是在向大家炫耀。</a:t>
            </a:r>
            <a:r>
              <a:rPr b="1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又是一阵连续的跳跃，此时，王明气喘吁吁地抬起头，看着最上沿的那些字迹，实在是够不着了。他无可奈何的站在黑板前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不知所措。</a:t>
            </a:r>
            <a:r>
              <a:rPr b="1" lang="zh-CN" sz="2400" spc="-1" strike="noStrike">
                <a:solidFill>
                  <a:srgbClr val="0066ff"/>
                </a:solidFill>
                <a:latin typeface="楷体"/>
                <a:ea typeface="楷体"/>
              </a:rPr>
              <a:t>唉！我不禁同情起他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380880"/>
            <a:ext cx="3276720" cy="1434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让人物鲜活起来的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25146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"/>
              </a:rPr>
              <a:t>把人物的动作进行分解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"/>
              </a:rPr>
              <a:t>+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"/>
              </a:rPr>
              <a:t>动作感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3352680"/>
            <a:ext cx="6476760" cy="1373760"/>
          </a:xfrm>
          <a:prstGeom prst="rect">
            <a:avLst/>
          </a:prstGeom>
          <a:noFill/>
          <a:ln cap="rnd" w="76320">
            <a:solidFill>
              <a:srgbClr val="ff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第一步：注意抓住活动过程中的三个阶段：一开始……后来……最后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第二步：在每个阶段中抓住人物的三个或三个以上的身体部位进行叙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第三步：在每个时段都写出自己的心理感受或对人物心理的揣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380880"/>
            <a:ext cx="3276720" cy="1434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让人物鲜活起来的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4724280"/>
            <a:ext cx="6934320" cy="642600"/>
          </a:xfrm>
          <a:prstGeom prst="rect">
            <a:avLst/>
          </a:prstGeom>
          <a:noFill/>
          <a:ln cap="rnd" w="76320">
            <a:solidFill>
              <a:srgbClr val="ff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"/>
              </a:rPr>
              <a:t>把人物的动作进行分解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"/>
              </a:rPr>
              <a:t>+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"/>
              </a:rPr>
              <a:t>动作感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2971800"/>
            <a:ext cx="6858000" cy="642600"/>
          </a:xfrm>
          <a:prstGeom prst="rect">
            <a:avLst/>
          </a:prstGeom>
          <a:noFill/>
          <a:ln cap="rnd" w="76320">
            <a:solidFill>
              <a:srgbClr val="ff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"/>
              </a:rPr>
              <a:t>抓住人物的动作、外貌、语言、心理进行描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762120"/>
            <a:ext cx="3809880" cy="642600"/>
          </a:xfrm>
          <a:prstGeom prst="rect">
            <a:avLst/>
          </a:pr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观察人物的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1600200"/>
            <a:ext cx="6782040" cy="3506040"/>
          </a:xfrm>
          <a:prstGeom prst="rect">
            <a:avLst/>
          </a:prstGeom>
          <a:noFill/>
          <a:ln cap="rnd" w="76320">
            <a:solidFill>
              <a:srgbClr val="ff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看，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人物的神情和动作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看，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刚开始的时候……僵持的时候……最后的时候……三个阶段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每个阶段注意观察人物的脸色、眼睛、鼻子、嘴巴、牙齿、身体、手、手背、腿、膝盖等身体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听，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听听人物的语言和声音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想，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揣测掰腕子的同学的心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感，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注意自己的心理感受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153280" y="4191120"/>
            <a:ext cx="76212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18:57:02Z</dcterms:created>
  <dc:creator>谭书娟</dc:creator>
  <dc:description/>
  <dc:language>en-US</dc:language>
  <cp:lastModifiedBy>微软用户</cp:lastModifiedBy>
  <dcterms:modified xsi:type="dcterms:W3CDTF">2012-12-10T13:37:33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