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type.wav" ContentType="audio/x-wav"/>
  <Override PartName="/ppt/media/image25.gif" ContentType="image/gif"/>
  <Override PartName="/ppt/media/image15.jpeg" ContentType="image/jpeg"/>
  <Override PartName="/ppt/media/image12.jpeg" ContentType="image/jpeg"/>
  <Override PartName="/ppt/media/cashreg.wav" ContentType="audio/x-wav"/>
  <Override PartName="/ppt/media/image22.jpeg" ContentType="image/jpeg"/>
  <Override PartName="/ppt/media/image11.gif" ContentType="image/gif"/>
  <Override PartName="/ppt/media/image10.jpeg" ContentType="image/jpeg"/>
  <Override PartName="/ppt/media/image2.png" ContentType="image/png"/>
  <Override PartName="/ppt/media/image9.jpeg" ContentType="image/jpeg"/>
  <Override PartName="/ppt/media/coin.wav" ContentType="audio/x-wav"/>
  <Override PartName="/ppt/media/image16.jpeg" ContentType="image/jpeg"/>
  <Override PartName="/ppt/media/wind.wav" ContentType="audio/x-wav"/>
  <Override PartName="/ppt/media/image24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5.png" ContentType="image/png"/>
  <Override PartName="/ppt/media/applause.wav" ContentType="audio/x-wav"/>
  <Override PartName="/ppt/media/image34.jpeg" ContentType="image/jpeg"/>
  <Override PartName="/ppt/media/image28.jpeg" ContentType="image/jpeg"/>
  <Override PartName="/ppt/media/whoosh.wav" ContentType="audio/x-wav"/>
  <Override PartName="/ppt/media/image7.gif" ContentType="image/gif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click.wav" ContentType="audio/x-wav"/>
  <Override PartName="/ppt/media/image23.jpeg" ContentType="image/jpeg"/>
  <Override PartName="/ppt/media/image36.jpeg" ContentType="image/jpeg"/>
  <Override PartName="/ppt/media/breeze.wav" ContentType="audio/x-wav"/>
  <Override PartName="/ppt/media/camera.wav" ContentType="audio/x-wav"/>
  <Override PartName="/ppt/media/bomb.wav" ContentType="audio/x-wav"/>
  <Override PartName="/ppt/media/arrow.wav" ContentType="audio/x-wav"/>
  <Override PartName="/ppt/media/image13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F40-C578-40C3-8E9F-96774C2D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D29-648D-4C19-8345-924041F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E4C-F458-493E-AEAE-EE02FF90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10E-5B67-4FE6-A396-62AD9A1B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061F-0403-4D17-80CC-117BAB20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B674-9CC3-4CE2-A971-DBE1F5CF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C4EE-5035-4513-B222-38A1953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9BA-2876-469F-828E-C312D4F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203A-0D80-4AE0-A30F-C950A86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C96F-BABA-4ABB-ACE5-532577E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1074-ABA3-4149-9942-834DEED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610-C464-4F3A-8296-F8A0F37E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0727-FADD-4F5C-A01B-250085C5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394-0CD4-42CE-99D6-D4E4538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F216-3EAA-491C-BC93-1553F472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1B14-35ED-4125-84DD-B57A4823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0A2-C8EF-4942-9A70-91AD9667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8A9-2959-47FD-86F7-0D83344C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9C2-4C7C-40F8-A51B-10B3D22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4C6-1693-4186-8241-E1383395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432-6A89-414B-8231-66AEA688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A44-A157-43FE-9EB3-2C0312C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FBF-8665-40D8-8217-29E446A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447-20A0-495F-A040-D834C3F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326A-BA25-433A-98E2-5CCCC5F45A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BB4-C782-4BB8-8AE2-44C1D5A9BA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6.xml"/><Relationship Id="rId4" Type="http://schemas.openxmlformats.org/officeDocument/2006/relationships/image" Target="../media/image24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7.xml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905120"/>
            <a:ext cx="701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33360"/>
            <a:ext cx="756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人物描写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让你的作文更出彩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91120" y="11970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破毡帽 ，破袈裟，破蒲扇，小眼睛</a:t>
            </a:r>
            <a:r>
              <a:rPr b="0" lang="en-US" sz="6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952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— </a:t>
            </a:r>
            <a:r>
              <a:rPr b="1" lang="zh-CN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济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位仁兄的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外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何特征？请同学们描述一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3280" y="2421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确切的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者适当的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夸张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人物鲜明生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042920" y="260280"/>
            <a:ext cx="7272360" cy="1079640"/>
          </a:xfrm>
          <a:custGeom>
            <a:avLst/>
            <a:gdLst>
              <a:gd name="textAreaLeft" fmla="*/ 1011960 w 7272360"/>
              <a:gd name="textAreaRight" fmla="*/ 6260400 w 7272360"/>
              <a:gd name="textAreaTop" fmla="*/ 6732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38" stAng="16200000" swAng="5400000"/>
                <a:lnTo>
                  <a:pt x="5706" y="1350"/>
                </a:lnTo>
                <a:lnTo>
                  <a:pt x="15894" y="1350"/>
                </a:lnTo>
                <a:lnTo>
                  <a:pt x="15894" y="338"/>
                </a:lnTo>
                <a:arcTo wR="675" hR="338" stAng="10800000" swAng="5400000"/>
                <a:lnTo>
                  <a:pt x="21600" y="0"/>
                </a:lnTo>
                <a:lnTo>
                  <a:pt x="18900" y="10125"/>
                </a:lnTo>
                <a:lnTo>
                  <a:pt x="21600" y="20250"/>
                </a:lnTo>
                <a:lnTo>
                  <a:pt x="18594" y="20250"/>
                </a:lnTo>
                <a:lnTo>
                  <a:pt x="18594" y="21263"/>
                </a:lnTo>
                <a:arcTo wR="675" hR="338" stAng="0" swAng="5400000"/>
                <a:lnTo>
                  <a:pt x="3681" y="21600"/>
                </a:lnTo>
                <a:arcTo wR="675" hR="338" stAng="5400000" swAng="5400000"/>
                <a:lnTo>
                  <a:pt x="3006" y="20250"/>
                </a:lnTo>
                <a:lnTo>
                  <a:pt x="0" y="20250"/>
                </a:lnTo>
                <a:lnTo>
                  <a:pt x="2700" y="10125"/>
                </a:lnTo>
                <a:close/>
              </a:path>
              <a:path fill="none" w="21600" h="21600">
                <a:moveTo>
                  <a:pt x="5706" y="338"/>
                </a:moveTo>
                <a:arcTo wR="675" hR="338" stAng="0" swAng="5400000"/>
                <a:lnTo>
                  <a:pt x="3681" y="675"/>
                </a:lnTo>
                <a:arcTo wR="675" hR="338" stAng="16200000" swAng="-5400000"/>
                <a:arcTo wR="675" hR="338" stAng="10800000" swAng="-5400000"/>
                <a:lnTo>
                  <a:pt x="5706" y="1350"/>
                </a:lnTo>
              </a:path>
              <a:path fill="none" w="21600" h="21600">
                <a:moveTo>
                  <a:pt x="15894" y="338"/>
                </a:moveTo>
                <a:arcTo wR="675" hR="338" stAng="10800000" swAng="-5400000"/>
                <a:lnTo>
                  <a:pt x="17919" y="675"/>
                </a:lnTo>
                <a:arcTo wR="675" hR="338" stAng="16200000" swAng="5400000"/>
                <a:arcTo wR="675" hR="338" stAng="0" swAng="5400000"/>
                <a:lnTo>
                  <a:pt x="15894" y="1350"/>
                </a:lnTo>
              </a:path>
              <a:path fill="none" w="21600" h="21600">
                <a:moveTo>
                  <a:pt x="3006" y="1013"/>
                </a:moveTo>
                <a:lnTo>
                  <a:pt x="3006" y="20250"/>
                </a:lnTo>
              </a:path>
              <a:path fill="none" w="21600" h="21600">
                <a:moveTo>
                  <a:pt x="18594" y="1013"/>
                </a:moveTo>
                <a:lnTo>
                  <a:pt x="18594" y="20250"/>
                </a:lnTo>
              </a:path>
            </a:pathLst>
          </a:custGeom>
          <a:solidFill>
            <a:srgbClr val="f9feb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二步：运用比喻或夸张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9604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新来的方老师，形象可真惨了点，身高不足一米六零，长鼻梁，尖下巴，身子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瘦得像条干黄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637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我家邻居有个小男孩，是个独生子，虽然家里天天给他吃过量的高级营养品，可他就是不争气，仍然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瘦得像根扫帚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50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e61e31"/>
                </a:solidFill>
                <a:uFillTx/>
                <a:latin typeface="Times New Roman"/>
                <a:ea typeface="楷体_GB2312"/>
              </a:rPr>
              <a:t>学会用比喻夸张修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365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那富婆一身珠光宝气，五根手指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像五根胖墩墩的香肠</a:t>
            </a:r>
            <a:r>
              <a:rPr b="1" lang="zh-CN" sz="3200" spc="-1" strike="noStrike">
                <a:solidFill>
                  <a:srgbClr val="99cc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87640" y="3429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貌与</a:t>
            </a:r>
            <a:r>
              <a:rPr b="1" lang="zh-CN" sz="36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性格品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合 ，使人物更丰满，更鲜活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539640" y="189000"/>
            <a:ext cx="8604360" cy="936360"/>
          </a:xfrm>
          <a:custGeom>
            <a:avLst/>
            <a:gdLst>
              <a:gd name="textAreaLeft" fmla="*/ 1197360 w 8604360"/>
              <a:gd name="textAreaRight" fmla="*/ 7407000 w 8604360"/>
              <a:gd name="textAreaTop" fmla="*/ 5868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40" stAng="16200000" swAng="5400000"/>
                <a:lnTo>
                  <a:pt x="5706" y="1361"/>
                </a:lnTo>
                <a:lnTo>
                  <a:pt x="15894" y="1361"/>
                </a:lnTo>
                <a:lnTo>
                  <a:pt x="15894" y="340"/>
                </a:lnTo>
                <a:arcTo wR="675" hR="340" stAng="10800000" swAng="5400000"/>
                <a:lnTo>
                  <a:pt x="21600" y="0"/>
                </a:lnTo>
                <a:lnTo>
                  <a:pt x="18900" y="10120"/>
                </a:lnTo>
                <a:lnTo>
                  <a:pt x="21600" y="20239"/>
                </a:lnTo>
                <a:lnTo>
                  <a:pt x="18594" y="20239"/>
                </a:lnTo>
                <a:lnTo>
                  <a:pt x="18594" y="21260"/>
                </a:lnTo>
                <a:arcTo wR="675" hR="340" stAng="0" swAng="5400000"/>
                <a:lnTo>
                  <a:pt x="3681" y="21600"/>
                </a:lnTo>
                <a:arcTo wR="675" hR="340" stAng="5400000" swAng="5400000"/>
                <a:lnTo>
                  <a:pt x="3006" y="20239"/>
                </a:lnTo>
                <a:lnTo>
                  <a:pt x="0" y="20239"/>
                </a:lnTo>
                <a:lnTo>
                  <a:pt x="2700" y="10120"/>
                </a:lnTo>
                <a:close/>
              </a:path>
              <a:path fill="none" w="21600" h="21600">
                <a:moveTo>
                  <a:pt x="5706" y="340"/>
                </a:moveTo>
                <a:arcTo wR="675" hR="340" stAng="0" swAng="5400000"/>
                <a:lnTo>
                  <a:pt x="3681" y="681"/>
                </a:lnTo>
                <a:arcTo wR="675" hR="340" stAng="16200000" swAng="-5400000"/>
                <a:arcTo wR="675" hR="340" stAng="10800000" swAng="-5400000"/>
                <a:lnTo>
                  <a:pt x="5706" y="1361"/>
                </a:lnTo>
              </a:path>
              <a:path fill="none" w="21600" h="21600">
                <a:moveTo>
                  <a:pt x="15894" y="340"/>
                </a:moveTo>
                <a:arcTo wR="675" hR="340" stAng="10800000" swAng="-5400000"/>
                <a:lnTo>
                  <a:pt x="17919" y="681"/>
                </a:lnTo>
                <a:arcTo wR="675" hR="340" stAng="16200000" swAng="5400000"/>
                <a:arcTo wR="675" hR="340" stAng="0" swAng="5400000"/>
                <a:lnTo>
                  <a:pt x="15894" y="1361"/>
                </a:lnTo>
              </a:path>
              <a:path fill="none" w="21600" h="21600">
                <a:moveTo>
                  <a:pt x="3006" y="1021"/>
                </a:moveTo>
                <a:lnTo>
                  <a:pt x="3006" y="20239"/>
                </a:lnTo>
              </a:path>
              <a:path fill="none" w="21600" h="21600">
                <a:moveTo>
                  <a:pt x="18594" y="1021"/>
                </a:moveTo>
                <a:lnTo>
                  <a:pt x="18594" y="20239"/>
                </a:lnTo>
              </a:path>
            </a:pathLst>
          </a:custGeom>
          <a:solidFill>
            <a:srgbClr val="f9feb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三步：联系个性品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3933720"/>
            <a:ext cx="612108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满头的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银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戴着一副黑边老花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眼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消瘦的脸上爬满了岁月的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皱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皱纹里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盛满了心酸的故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408720" cy="327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47640" y="1700280"/>
            <a:ext cx="7448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貌描写的三个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256536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一 、抓住外貌的突出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二、适当运用比喻夸张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  <a:ea typeface="楷体_GB2312"/>
              </a:rPr>
              <a:t>三、外貌与性格品质相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2743200" cy="1371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628640"/>
            <a:ext cx="547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同学运用人物外貌描写的方法对班上的同学进行描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0b38"/>
                </a:solidFill>
                <a:latin typeface="Times New Roman"/>
              </a:rPr>
              <a:t>要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最能反映人物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貌特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87640" y="0"/>
            <a:ext cx="4114800" cy="19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他是谁？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47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49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动作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6102360"/>
            <a:ext cx="1295280" cy="755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shreg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2000" y="54936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一步：写好连续动作</a:t>
            </a:r>
            <a:r>
              <a:rPr b="0" lang="zh-CN" sz="4000" spc="-1" strike="noStrike">
                <a:solidFill>
                  <a:srgbClr val="ea1e3b"/>
                </a:solidFill>
                <a:latin typeface="Times New Roman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2421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二步：具体写出动作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4365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第三步：写好动作细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48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一连串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3500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限制词、修饰词；准确选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373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斟酌用词 ，突出性格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2195640" y="1125360"/>
            <a:ext cx="4952880" cy="4233960"/>
            <a:chOff x="2195640" y="1125360"/>
            <a:chExt cx="4952880" cy="4233960"/>
          </a:xfrm>
        </p:grpSpPr>
        <p:sp>
          <p:nvSpPr>
            <p:cNvPr id="159" name=""/>
            <p:cNvSpPr txBox="1"/>
            <p:nvPr/>
          </p:nvSpPr>
          <p:spPr>
            <a:xfrm>
              <a:off x="2805120" y="1125360"/>
              <a:ext cx="34290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95640" y="1887480"/>
              <a:ext cx="4952880" cy="3471840"/>
              <a:chOff x="2195640" y="1887480"/>
              <a:chExt cx="4952880" cy="3471840"/>
            </a:xfrm>
          </p:grpSpPr>
          <p:sp>
            <p:nvSpPr>
              <p:cNvPr id="161" name=""/>
              <p:cNvSpPr txBox="1"/>
              <p:nvPr/>
            </p:nvSpPr>
            <p:spPr>
              <a:xfrm>
                <a:off x="2195640" y="1887480"/>
                <a:ext cx="4952880" cy="2133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语言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3920" y="3944880"/>
                <a:ext cx="1524240" cy="141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  <p:sndAc>
      <p:stSnd>
        <p:snd r:embed="rId3" name="cashreg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700360" y="2708280"/>
            <a:ext cx="4802040" cy="2295720"/>
            <a:chOff x="2700360" y="2708280"/>
            <a:chExt cx="4802040" cy="2295720"/>
          </a:xfrm>
        </p:grpSpPr>
        <p:sp>
          <p:nvSpPr>
            <p:cNvPr id="86" name=""/>
            <p:cNvSpPr/>
            <p:nvPr/>
          </p:nvSpPr>
          <p:spPr>
            <a:xfrm>
              <a:off x="2700360" y="2708280"/>
              <a:ext cx="48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df0b38"/>
                  </a:solidFill>
                  <a:latin typeface="Times New Roman"/>
                </a:rPr>
                <a:t>为什么我写的人物总觉得干巴巴的，没有一点特色与生气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2400600">
              <a:off x="5435280" y="3859200"/>
              <a:ext cx="1079640" cy="90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/>
    <p:sndAc>
      <p:stSnd>
        <p:snd r:embed="rId3" name="arrow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57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如其人”，不同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身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同性格的人，说话是各有特色的，语言描写就是要把这种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个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来。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565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华文隶书"/>
              </a:rPr>
              <a:t>第一步：要体现人物的身份与性格特征</a:t>
            </a:r>
            <a:r>
              <a:rPr b="0" lang="en-US" sz="3600" spc="-1" strike="noStrike">
                <a:solidFill>
                  <a:srgbClr val="ea1e3b"/>
                </a:solidFill>
                <a:latin typeface="Times New Roman"/>
                <a:ea typeface="方正舒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126828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八岁的小明对爸爸说：“你给我好好听着，下班就回家，不准喝酒打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八岁的小孩会这样说吗？ 应该是谁说比较合适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42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最有特点的是他喜欢用“</a:t>
            </a:r>
            <a:r>
              <a:rPr b="1" lang="zh-CN" sz="2800" spc="-1" strike="noStrike">
                <a:solidFill>
                  <a:srgbClr val="cf132e"/>
                </a:solidFill>
                <a:latin typeface="Arial"/>
              </a:rPr>
              <a:t>帅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这个词来形容自己。面对谁都说“</a:t>
            </a:r>
            <a:r>
              <a:rPr b="1" lang="zh-CN" sz="2800" spc="-1" strike="noStrike">
                <a:solidFill>
                  <a:srgbClr val="d61304"/>
                </a:solidFill>
                <a:latin typeface="Arial"/>
              </a:rPr>
              <a:t>本帅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连发短信也不例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29160" y="1110600"/>
            <a:ext cx="56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第二步：在言语中对神情、态度等加以修饰</a:t>
            </a:r>
            <a:r>
              <a:rPr b="1" lang="zh-CN" sz="28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134160"/>
            <a:ext cx="752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那只羚羊哪儿去啦？”妈妈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突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爸爸不是说给我了吗？”我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小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要说实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不是拿出去卖啦？”妈妈变得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十分严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没有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送人了”我觉得自己的声音有些</a:t>
            </a:r>
            <a:r>
              <a:rPr b="1" lang="zh-CN" sz="2800" spc="-1" strike="noStrike">
                <a:solidFill>
                  <a:srgbClr val="ea1e3b"/>
                </a:solidFill>
                <a:latin typeface="宋体"/>
              </a:rPr>
              <a:t>发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3213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不仅要写出</a:t>
            </a:r>
            <a:r>
              <a:rPr b="1" lang="zh-CN" sz="36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说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要写出</a:t>
            </a:r>
            <a:r>
              <a:rPr b="1" lang="zh-CN" sz="36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怎样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样才能更好地表现人物的性格特征与文章中心思想。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84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第三步：要结合其它人物描写方法</a:t>
            </a:r>
            <a:r>
              <a:rPr b="1" lang="en-US" sz="40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765000"/>
            <a:ext cx="7488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记住，这，这是，大家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”他蓦地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手去，深深地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气，用尽所有的力气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手来，直</a:t>
            </a:r>
            <a:r>
              <a:rPr b="1" lang="zh-CN" sz="32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正北方向，“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好，好同志</a:t>
            </a:r>
            <a:r>
              <a:rPr b="1" lang="en-US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你</a:t>
            </a:r>
            <a:r>
              <a:rPr b="1" lang="en-US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你把它带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根火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14972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满脸通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个劲儿地直</a:t>
            </a:r>
            <a:r>
              <a:rPr b="1" lang="zh-CN" sz="3200" spc="-1" strike="noStrike">
                <a:solidFill>
                  <a:srgbClr val="13732a"/>
                </a:solidFill>
                <a:latin typeface="Times New Roman"/>
                <a:ea typeface="楷体_GB2312"/>
              </a:rPr>
              <a:t>跺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</a:t>
            </a:r>
            <a:r>
              <a:rPr b="1" lang="zh-CN" sz="32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唉呀，真的！不骗你，不骗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5589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动作</a:t>
            </a:r>
            <a:r>
              <a:rPr b="1" lang="en-US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神态</a:t>
            </a:r>
            <a:r>
              <a:rPr b="1" lang="en-US" sz="3600" spc="-1" strike="noStrike">
                <a:solidFill>
                  <a:srgbClr val="13732a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1413000"/>
            <a:ext cx="6842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语言描写的三个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f0b3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0b38"/>
                </a:solidFill>
                <a:latin typeface="楷体_GB2312"/>
                <a:ea typeface="楷体_GB2312"/>
              </a:rPr>
              <a:t>一、要体现人物的身份与性格特点相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f0b3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0b38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在言语中对神情、态度等加以修饰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1e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三、要结合其它人物描写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76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78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心理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人物心理描写</a:t>
            </a:r>
            <a:br>
              <a:rPr sz="4000"/>
            </a:br>
            <a:r>
              <a:rPr b="1" lang="zh-CN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000" spc="-1" strike="noStrike">
                <a:solidFill>
                  <a:srgbClr val="d61304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ea1e3b"/>
                </a:solidFill>
                <a:latin typeface="Times New Roman"/>
              </a:rPr>
              <a:t>写好心理，倾诉心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8209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主要靠人物的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言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描写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过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过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物的心理描写</a:t>
            </a:r>
            <a:r>
              <a:rPr b="1" lang="zh-CN" sz="36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不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以“我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出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2643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示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和我走到车上，将橘子一股脑儿放在我的皮大衣上。于是扑扑衣上的泥土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心里很轻松似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测试得了一百分，我抑制不住心里的喜悦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想小鸟一样飞进了家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关心，</a:t>
            </a:r>
            <a:r>
              <a:rPr b="1" lang="zh-CN" sz="3200" spc="-1" strike="noStrike">
                <a:solidFill>
                  <a:srgbClr val="ea1e3b"/>
                </a:solidFill>
                <a:latin typeface="楷体_GB2312"/>
                <a:ea typeface="楷体_GB2312"/>
              </a:rPr>
              <a:t>让我像打翻了五味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真不是滋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102360"/>
            <a:ext cx="1295280" cy="75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5493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017"/>
                </a:solidFill>
                <a:latin typeface="Times New Roman"/>
                <a:ea typeface="楷体_GB2312"/>
              </a:rPr>
              <a:t>欣赏佳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2349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老吴</a:t>
            </a:r>
            <a:r>
              <a:rPr b="1" lang="en-US" sz="4800" spc="-1" strike="noStrike">
                <a:solidFill>
                  <a:srgbClr val="ea1e3b"/>
                </a:solidFill>
                <a:latin typeface="Times New Roman"/>
                <a:ea typeface="楷体_GB2312"/>
              </a:rPr>
              <a:t>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863640" cy="86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692280"/>
            <a:ext cx="648036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描写人物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表现人物</a:t>
            </a:r>
            <a:r>
              <a:rPr b="1" lang="zh-CN" sz="4400" spc="-1" strike="noStrike">
                <a:solidFill>
                  <a:srgbClr val="df0b38"/>
                </a:solidFill>
                <a:latin typeface="Times New Roman"/>
              </a:rPr>
              <a:t>个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27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肖像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292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364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437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0b38"/>
                </a:solidFill>
                <a:latin typeface="Times New Roman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565360"/>
            <a:ext cx="142920" cy="230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66760" y="1000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66760" y="78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0"/>
            <a:ext cx="3095640" cy="1197000"/>
          </a:xfrm>
          <a:prstGeom prst="ellipse">
            <a:avLst/>
          </a:prstGeom>
          <a:solidFill>
            <a:srgbClr val="df0b38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练一练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457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366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708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综合运用人物描写的方法，对我们班的实习老师进行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df0b38"/>
                </a:solidFill>
                <a:latin typeface="Times New Roman"/>
              </a:rPr>
              <a:t>注意：要抓住人物的个性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数：题目自拟，要求字迹工整，条理清楚，字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77336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16000" y="1341360"/>
            <a:ext cx="360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的实习老师</a:t>
            </a:r>
            <a:endParaRPr b="0" lang="en-US" sz="24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16000" y="765000"/>
            <a:ext cx="5905440" cy="5732640"/>
            <a:chOff x="1116000" y="765000"/>
            <a:chExt cx="5905440" cy="573264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116000" y="2923920"/>
              <a:ext cx="2674800" cy="35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3060720" y="765000"/>
              <a:ext cx="3960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77000"/>
                      </a:srgbClr>
                    </a:outerShdw>
                  </a:effectLst>
                  <a:latin typeface="宋体"/>
                </a:rPr>
                <a:t>实习老师来了！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split dir="out" orient="vert"/>
    <p:sndAc>
      <p:stSnd>
        <p:snd r:embed="rId5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34800" y="333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72203"/>
                </a:solidFill>
                <a:latin typeface="Times New Roman"/>
                <a:ea typeface="隶书"/>
              </a:rPr>
              <a:t>精段导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990720"/>
            <a:ext cx="7991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嗨！又来新生啦！” 眼明手快的“胖头儿”从板凳上蹦起来嚷着。不要他提醒，女同学早都围上去了，笑着拉住那“女生”的手就往空位上拽。“别、别、快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“女生”急得连连摆手：“我、我是你们的老师！”话音刚落，全班都哄堂大笑起来：“哈，就你？还老师？笑话，快别逗啦！”同学们七嘴八舌地打趣道。我也暗自好笑， 在一旁打量着她，一张圆圆的娃娃脸，天真烂漫的大眼睛，脑后梳着一根“马尾巴”，不高的身材穿着翠绿色绒衣，稚气十足！说她是幼儿园的小阿姨还差不多，可要说是高中数学老师，这简直是开国际玩笑嘛！班长笑着走过去伸手：”欢迎你成为我们中的一员！”她满脸通红，一个劲儿地直跺脚：“唉呀，真的！不骗你，不骗你们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忽然 “马尾巴”辫一甩，急中生智掏出备课本，四下晃动着：“你们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家凑上去，全都傻眼了：哟，还真是老师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83200" y="3141720"/>
            <a:ext cx="1107360" cy="305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张圆圆的娃娃脸，天真烂漫的大眼睛，脑后梳着一根“马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573360"/>
            <a:ext cx="4927680" cy="305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巴，不高的身材穿着翠绿色绒衣，稚气十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365720"/>
            <a:ext cx="1066680" cy="341280"/>
          </a:xfrm>
          <a:prstGeom prst="rect">
            <a:avLst/>
          </a:prstGeom>
          <a:solidFill>
            <a:srgbClr val="e50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满脸通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1916280"/>
            <a:ext cx="2736720" cy="341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那“女生”急得连连摆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797360"/>
            <a:ext cx="1224000" cy="30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地直跺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5229360"/>
            <a:ext cx="4753080" cy="30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甩，急中生智掏出备课本，四下晃动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5960" y="1916280"/>
            <a:ext cx="954360" cy="341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别、别、快别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797360"/>
            <a:ext cx="403380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唉呀，真的！不骗你，不骗你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797360"/>
            <a:ext cx="93672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的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229360"/>
            <a:ext cx="1655640" cy="305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你们看</a:t>
            </a:r>
            <a:r>
              <a:rPr b="1" lang="en-US" sz="2000" spc="-1" strike="noStrike">
                <a:solidFill>
                  <a:srgbClr val="fffffb"/>
                </a:solidFill>
                <a:latin typeface="Times New Roman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4280" y="4365720"/>
            <a:ext cx="435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b"/>
                </a:solidFill>
                <a:latin typeface="Times New Roman"/>
              </a:rPr>
              <a:t>一个劲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4797360"/>
            <a:ext cx="165708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马尾巴”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916280"/>
            <a:ext cx="27352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：“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我、我是你们的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276640"/>
            <a:ext cx="718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师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2708280"/>
            <a:ext cx="1657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暗自好笑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58040" y="3500280"/>
            <a:ext cx="170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说她是幼儿园的小阿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27160" y="4005360"/>
            <a:ext cx="4143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还差不多，可要说是高中数学老师，这简直是开国际玩笑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133720" y="1219320"/>
            <a:ext cx="4952880" cy="4232880"/>
            <a:chOff x="2133720" y="1219320"/>
            <a:chExt cx="4952880" cy="4232880"/>
          </a:xfrm>
        </p:grpSpPr>
        <p:sp>
          <p:nvSpPr>
            <p:cNvPr id="117" name=""/>
            <p:cNvSpPr txBox="1"/>
            <p:nvPr/>
          </p:nvSpPr>
          <p:spPr>
            <a:xfrm>
              <a:off x="2743200" y="1219320"/>
              <a:ext cx="34290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人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133720" y="1981080"/>
              <a:ext cx="4952880" cy="3471120"/>
              <a:chOff x="2133720" y="1981080"/>
              <a:chExt cx="4952880" cy="3471120"/>
            </a:xfrm>
          </p:grpSpPr>
          <p:sp>
            <p:nvSpPr>
              <p:cNvPr id="119" name=""/>
              <p:cNvSpPr txBox="1"/>
              <p:nvPr/>
            </p:nvSpPr>
            <p:spPr>
              <a:xfrm>
                <a:off x="2133720" y="1981080"/>
                <a:ext cx="4952880" cy="2133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宋体"/>
                  </a:rPr>
                  <a:t>外貌描写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  <a:ea typeface="宋体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4038120"/>
                <a:ext cx="1524240" cy="141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random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191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描写人物时要选取最能反映人物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身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特征，捕捉最能表现人物内心情感与个性特征的瞬间画面，而不要面面俱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0" y="620640"/>
            <a:ext cx="8856720" cy="1081080"/>
          </a:xfrm>
          <a:custGeom>
            <a:avLst/>
            <a:gdLst>
              <a:gd name="textAreaLeft" fmla="*/ 1232280 w 8856720"/>
              <a:gd name="textAreaRight" fmla="*/ 7624440 w 8856720"/>
              <a:gd name="textAreaTop" fmla="*/ 6732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031" y="0"/>
                </a:lnTo>
                <a:arcTo wR="675" hR="338" stAng="16200000" swAng="5400000"/>
                <a:lnTo>
                  <a:pt x="5706" y="1350"/>
                </a:lnTo>
                <a:lnTo>
                  <a:pt x="15894" y="1350"/>
                </a:lnTo>
                <a:lnTo>
                  <a:pt x="15894" y="338"/>
                </a:lnTo>
                <a:arcTo wR="675" hR="338" stAng="10800000" swAng="5400000"/>
                <a:lnTo>
                  <a:pt x="21600" y="0"/>
                </a:lnTo>
                <a:lnTo>
                  <a:pt x="18900" y="10125"/>
                </a:lnTo>
                <a:lnTo>
                  <a:pt x="21600" y="20250"/>
                </a:lnTo>
                <a:lnTo>
                  <a:pt x="18594" y="20250"/>
                </a:lnTo>
                <a:lnTo>
                  <a:pt x="18594" y="21263"/>
                </a:lnTo>
                <a:arcTo wR="675" hR="338" stAng="0" swAng="5400000"/>
                <a:lnTo>
                  <a:pt x="3681" y="21600"/>
                </a:lnTo>
                <a:arcTo wR="675" hR="338" stAng="5400000" swAng="5400000"/>
                <a:lnTo>
                  <a:pt x="3006" y="20250"/>
                </a:lnTo>
                <a:lnTo>
                  <a:pt x="0" y="20250"/>
                </a:lnTo>
                <a:lnTo>
                  <a:pt x="2700" y="10125"/>
                </a:lnTo>
                <a:close/>
              </a:path>
              <a:path fill="none" w="21600" h="21600">
                <a:moveTo>
                  <a:pt x="5706" y="338"/>
                </a:moveTo>
                <a:arcTo wR="675" hR="338" stAng="0" swAng="5400000"/>
                <a:lnTo>
                  <a:pt x="3681" y="675"/>
                </a:lnTo>
                <a:arcTo wR="675" hR="338" stAng="16200000" swAng="-5400000"/>
                <a:arcTo wR="675" hR="338" stAng="10800000" swAng="-5400000"/>
                <a:lnTo>
                  <a:pt x="5706" y="1350"/>
                </a:lnTo>
              </a:path>
              <a:path fill="none" w="21600" h="21600">
                <a:moveTo>
                  <a:pt x="15894" y="338"/>
                </a:moveTo>
                <a:arcTo wR="675" hR="338" stAng="10800000" swAng="-5400000"/>
                <a:lnTo>
                  <a:pt x="17919" y="675"/>
                </a:lnTo>
                <a:arcTo wR="675" hR="338" stAng="16200000" swAng="5400000"/>
                <a:arcTo wR="675" hR="338" stAng="0" swAng="5400000"/>
                <a:lnTo>
                  <a:pt x="15894" y="1350"/>
                </a:lnTo>
              </a:path>
              <a:path fill="none" w="21600" h="21600">
                <a:moveTo>
                  <a:pt x="3006" y="1013"/>
                </a:moveTo>
                <a:lnTo>
                  <a:pt x="3006" y="20250"/>
                </a:lnTo>
              </a:path>
              <a:path fill="none" w="21600" h="21600">
                <a:moveTo>
                  <a:pt x="18594" y="1013"/>
                </a:moveTo>
                <a:lnTo>
                  <a:pt x="18594" y="20250"/>
                </a:lnTo>
              </a:path>
            </a:pathLst>
          </a:custGeom>
          <a:solidFill>
            <a:srgbClr val="ffffb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304"/>
                </a:solidFill>
                <a:latin typeface="楷体_GB2312"/>
                <a:ea typeface="楷体_GB2312"/>
              </a:rPr>
              <a:t>第一步：抓住人物典型特征</a:t>
            </a:r>
            <a:r>
              <a:rPr b="1" lang="zh-CN" sz="4000" spc="-1" strike="noStrike">
                <a:solidFill>
                  <a:srgbClr val="e61e31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2920" y="1197000"/>
            <a:ext cx="6480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a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a11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660a11"/>
                </a:solidFill>
                <a:latin typeface="楷体_GB2312"/>
                <a:ea typeface="楷体_GB2312"/>
              </a:rPr>
              <a:t>样子十分可爱，浓浓的眉毛，大大的眼睛，十分爱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</a:rPr>
              <a:t>（大众化）</a:t>
            </a:r>
            <a:r>
              <a:rPr b="0" lang="zh-CN" sz="3200" spc="-1" strike="noStrike">
                <a:solidFill>
                  <a:srgbClr val="e61e3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141720"/>
            <a:ext cx="7632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660a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a11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660a11"/>
                </a:solidFill>
                <a:latin typeface="Times New Roman"/>
                <a:ea typeface="楷体_GB2312"/>
              </a:rPr>
              <a:t>他的外貌很有特点，在脸上有三个小黑点，一个在眼眉毛上面，一个在眼下面再偏右，还有一个在左眼旁边，还长着细细的胡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a11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（太过于细致）</a:t>
            </a:r>
            <a:r>
              <a:rPr b="0" lang="zh-CN" sz="3200" spc="-1" strike="noStrike">
                <a:solidFill>
                  <a:srgbClr val="e61e31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个特别帅气的小伙子，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黑黑的头发从头顶中央向四周分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十分密似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西瓜太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zh-CN" sz="3200" spc="-1" strike="noStrike">
                <a:solidFill>
                  <a:srgbClr val="ea1e3b"/>
                </a:solidFill>
                <a:latin typeface="Times New Roman"/>
              </a:rPr>
              <a:t>脸型很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脸上总是挂着迷人的微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328788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cp:lastPrinted>1899-12-30T00:00:00Z</cp:lastPrinted>
  <dcterms:modified xsi:type="dcterms:W3CDTF">2011-11-09T00:57:44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